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4.png" ContentType="image/png"/>
  <Override PartName="/ppt/media/image23.png" ContentType="image/png"/>
  <Override PartName="/ppt/media/image5.wmf" ContentType="image/x-wmf"/>
  <Override PartName="/ppt/media/image10.wmf" ContentType="image/x-wmf"/>
  <Override PartName="/ppt/media/image25.png" ContentType="image/png"/>
  <Override PartName="/ppt/media/image6.wmf" ContentType="image/x-wmf"/>
  <Override PartName="/ppt/media/image29.wmf" ContentType="image/x-wmf"/>
  <Override PartName="/ppt/media/image31.png" ContentType="image/png"/>
  <Override PartName="/ppt/media/image14.wmf" ContentType="image/x-wmf"/>
  <Override PartName="/ppt/media/image11.wmf" ContentType="image/x-wmf"/>
  <Override PartName="/ppt/media/image12.png" ContentType="image/png"/>
  <Override PartName="/ppt/media/image7.wmf" ContentType="image/x-wmf"/>
  <Override PartName="/ppt/media/image8.wmf" ContentType="image/x-wmf"/>
  <Override PartName="/ppt/media/image13.wmf" ContentType="image/x-wmf"/>
  <Override PartName="/ppt/media/image30.png" ContentType="image/png"/>
  <Override PartName="/ppt/media/image9.wmf" ContentType="image/x-wmf"/>
  <Override PartName="/ppt/media/image4.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8.png" ContentType="image/png"/>
  <Override PartName="/ppt/media/image1.wmf" ContentType="image/x-wmf"/>
  <Override PartName="/ppt/media/image15.png" ContentType="image/png"/>
  <Override PartName="/ppt/media/image16.png" ContentType="image/png"/>
  <Override PartName="/ppt/media/image17.wmf" ContentType="image/x-wmf"/>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1.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60948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 name="Text Box 13"/>
          <p:cNvSpPr/>
          <p:nvPr/>
        </p:nvSpPr>
        <p:spPr>
          <a:xfrm>
            <a:off x="686880" y="6400800"/>
            <a:ext cx="167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ww.edbodmer.com</a:t>
            </a:r>
            <a:endParaRPr b="0" lang="en-US" sz="1200" spc="-1" strike="noStrike">
              <a:solidFill>
                <a:srgbClr val="000000"/>
              </a:solidFill>
              <a:latin typeface="Arial"/>
            </a:endParaRPr>
          </a:p>
        </p:txBody>
      </p:sp>
      <p:sp>
        <p:nvSpPr>
          <p:cNvPr id="7" name="Text Box 16">
            <a:hlinkClick r:id="rId2" action="ppaction://hlinksldjump"/>
          </p:cNvPr>
          <p:cNvSpPr/>
          <p:nvPr/>
        </p:nvSpPr>
        <p:spPr>
          <a:xfrm>
            <a:off x="7575120" y="640080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D53B2-6F40-4B47-8ED8-5B622DCF544F}"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6" name="Group 12"/>
          <p:cNvGrpSpPr/>
          <p:nvPr/>
        </p:nvGrpSpPr>
        <p:grpSpPr>
          <a:xfrm>
            <a:off x="0" y="0"/>
            <a:ext cx="9144000" cy="6858000"/>
            <a:chOff x="0" y="0"/>
            <a:chExt cx="9144000" cy="6858000"/>
          </a:xfrm>
        </p:grpSpPr>
        <p:sp>
          <p:nvSpPr>
            <p:cNvPr id="47" name="Rectangle 13"/>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Rectangle 14"/>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9" name="Line 7"/>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0" name="Text Box 8"/>
          <p:cNvSpPr/>
          <p:nvPr/>
        </p:nvSpPr>
        <p:spPr>
          <a:xfrm>
            <a:off x="610560" y="6324480"/>
            <a:ext cx="167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ww.edbodmer.com</a:t>
            </a:r>
            <a:endParaRPr b="0" lang="en-US" sz="1200" spc="-1" strike="noStrike">
              <a:solidFill>
                <a:srgbClr val="000000"/>
              </a:solidFill>
              <a:latin typeface="Arial"/>
            </a:endParaRPr>
          </a:p>
        </p:txBody>
      </p:sp>
      <p:sp>
        <p:nvSpPr>
          <p:cNvPr id="51" name="Text Box 9"/>
          <p:cNvSpPr/>
          <p:nvPr/>
        </p:nvSpPr>
        <p:spPr>
          <a:xfrm>
            <a:off x="7272720" y="63244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BF43A-42A2-4A48-8065-F3B9AE8D28C7}"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52" name="Text Box 10"/>
          <p:cNvSpPr/>
          <p:nvPr/>
        </p:nvSpPr>
        <p:spPr>
          <a:xfrm>
            <a:off x="6737040" y="632448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D33B1-3CA4-4C35-9DC1-D8A1E6A07D08}"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4" name="PlaceHolder 2"/>
          <p:cNvSpPr>
            <a:spLocks noGrp="1"/>
          </p:cNvSpPr>
          <p:nvPr>
            <p:ph type="body"/>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 – Project Finance in the Context of General Finance</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nomic Ideas and History of Independent Power</a:t>
            </a:r>
            <a:endParaRPr b="1" lang="en-US" sz="2000" spc="-1" strike="noStrike">
              <a:solidFill>
                <a:srgbClr val="000000"/>
              </a:solidFill>
              <a:latin typeface="Arial"/>
            </a:endParaRPr>
          </a:p>
        </p:txBody>
      </p:sp>
      <p:sp>
        <p:nvSpPr>
          <p:cNvPr id="10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Monopoly and Economies of Scale do not Exist in Gener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A Demonstrated that Independent Power could Wor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e Risks to IPPs Related to Controllable Risks to Provide Incentiv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 Risk, Fuel Price Risk and Capacity Mix Risk in Merchant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Ratios Affected by Risk Adjustment</a:t>
            </a:r>
            <a:endParaRPr b="1" lang="en-US" sz="2000" spc="-1" strike="noStrike">
              <a:solidFill>
                <a:srgbClr val="000000"/>
              </a:solidFill>
              <a:latin typeface="Arial"/>
            </a:endParaRPr>
          </a:p>
        </p:txBody>
      </p:sp>
      <p:sp>
        <p:nvSpPr>
          <p:cNvPr id="28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ratios affected by the PPA adjustment includ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 sheet debt is increased by the calculated NPV of the stream of capacity payments, after the application of the risk factor, which is added to the numerator and denominator in calculating an adjusted debt-to-capitalization ratio;</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mplied interest expense derived from applying the average interest rate to the NPV figure is simultaneously treated as a reduction in power purchase expenses and added to interest expense for the calculation of the adjusted funds from operations (FFO) to interest ratio; an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FO to total debt ratio is adjusted by adding the NPV of capacity payments, after the application of the risk factor, to debt in the denominator and an implied depreciation expense is added to FFO.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 of PPA Accounting Treatment on PPA Costs and Benefits</a:t>
            </a:r>
            <a:endParaRPr b="1" lang="en-US" sz="2000" spc="-1" strike="noStrike">
              <a:solidFill>
                <a:srgbClr val="000000"/>
              </a:solidFill>
              <a:latin typeface="Arial"/>
            </a:endParaRPr>
          </a:p>
        </p:txBody>
      </p:sp>
      <p:sp>
        <p:nvSpPr>
          <p:cNvPr id="29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ty return on equity higher than after tax cost of deb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ment as capitalised lease means more equity must be raised to compensate for the debt that is capitalis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creased cost of equity at the utility company offsets the use of debt by the SPV.</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Price Exercise with Alternative Treatment of PPA Contracts </a:t>
            </a:r>
            <a:endParaRPr b="1" lang="en-US" sz="2000" spc="-1" strike="noStrike">
              <a:solidFill>
                <a:srgbClr val="000000"/>
              </a:solidFill>
              <a:latin typeface="Arial"/>
            </a:endParaRPr>
          </a:p>
        </p:txBody>
      </p:sp>
      <p:sp>
        <p:nvSpPr>
          <p:cNvPr id="29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from perspective of off-tak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1: Off-taker builds plant and finances with 50% equity and 50% deb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2: PPA agreemen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PA is financed with 85% debt</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taker treats PPA agreement as normal contract</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taker capitalises availability charges as lease payment</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debt and equity capital in case where PPA is treated as a lease payment</a:t>
            </a:r>
            <a:endParaRPr b="0" lang="en-US" sz="1600" spc="-1" strike="noStrike">
              <a:solidFill>
                <a:srgbClr val="000000"/>
              </a:solidFill>
              <a:latin typeface="Arial"/>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tion Clauses</a:t>
            </a:r>
            <a:endParaRPr b="1" lang="en-US" sz="2000" spc="-1" strike="noStrike">
              <a:solidFill>
                <a:srgbClr val="000000"/>
              </a:solidFill>
              <a:latin typeface="Arial"/>
            </a:endParaRPr>
          </a:p>
        </p:txBody>
      </p:sp>
      <p:sp>
        <p:nvSpPr>
          <p:cNvPr id="29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designed to repay senior lenders in case of PPA termin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may be where termination occurs because of default on debt.  Here the off-taker may have the option to buy-out facility and repay the entire senior deb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wnership of off-taker (government perc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ating of the off-taker declin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termination valuation depending on causes for termin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 of senior debt claims and termination costs onl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 of senior debt plus equity contributions (pre-PCO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 of senior debt plus compounded rate of return on 12% on equity contributions</a:t>
            </a:r>
            <a:endParaRPr b="0" lang="en-US" sz="18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ternative Policy Models</a:t>
            </a:r>
            <a:endParaRPr b="1" lang="en-US" sz="28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Ownership Model</a:t>
            </a:r>
            <a:endParaRPr b="1" lang="en-US" sz="2000" spc="-1" strike="noStrike">
              <a:solidFill>
                <a:srgbClr val="000000"/>
              </a:solidFill>
              <a:latin typeface="Arial"/>
            </a:endParaRPr>
          </a:p>
        </p:txBody>
      </p:sp>
      <p:sp>
        <p:nvSpPr>
          <p:cNvPr id="297" name=""/>
          <p:cNvSpPr txBox="1"/>
          <p:nvPr/>
        </p:nvSpPr>
        <p:spPr>
          <a:xfrm>
            <a:off x="685800" y="1447560"/>
            <a:ext cx="7696080" cy="464796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tate-owned and -run enterprises have performed well (e.g. EDF).</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sion of electric power is highly political and the state must have some involvemen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ity is very capital intensive and the state should have a relative low cost of capital.</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ystems have not worked and have sometimes resulted in large investor returns above the cost of capital being transferred to investors from other countrie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U.S., systems owned by the government have lower rates and they were less affected by extreme movements in wholesale power pric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owned systems may have the flexibility to reduce prices in times of economic crisis.</a:t>
            </a:r>
            <a:endParaRPr b="0" lang="en-US" sz="16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Ownership Model</a:t>
            </a:r>
            <a:endParaRPr b="1" lang="en-US" sz="2000" spc="-1" strike="noStrike">
              <a:solidFill>
                <a:srgbClr val="000000"/>
              </a:solidFill>
              <a:latin typeface="Arial"/>
            </a:endParaRPr>
          </a:p>
        </p:txBody>
      </p:sp>
      <p:sp>
        <p:nvSpPr>
          <p:cNvPr id="299" name=""/>
          <p:cNvSpPr txBox="1"/>
          <p:nvPr/>
        </p:nvSpPr>
        <p:spPr>
          <a:xfrm>
            <a:off x="762120" y="1523880"/>
            <a:ext cx="7619760" cy="4572000"/>
          </a:xfrm>
          <a:prstGeom prst="rect">
            <a:avLst/>
          </a:prstGeom>
          <a:noFill/>
          <a:ln w="0">
            <a:noFill/>
          </a:ln>
        </p:spPr>
        <p:txBody>
          <a:bodyPr lIns="92160" rIns="92160" tIns="46080" bIns="46080" anchor="t">
            <a:normAutofit/>
          </a:bodyPr>
          <a:p>
            <a:pPr lvl="1"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lvl="2" marL="74628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out the forces of competition or incentives of the profit motive to improve performance many systems eventually result in excessive costs, low service quality, power shortages (e.g. Nigeria) and poor investment decisions.</a:t>
            </a:r>
            <a:endParaRPr b="0" lang="en-US" sz="1600" spc="-1" strike="noStrike">
              <a:solidFill>
                <a:srgbClr val="000000"/>
              </a:solidFill>
              <a:latin typeface="Arial"/>
            </a:endParaRPr>
          </a:p>
          <a:p>
            <a:pPr lvl="2" marL="74628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ice charged by some state systems is below the marginal cost of producing energy which can lead to over-use of electricity and take resources away from other areas of the economy.</a:t>
            </a:r>
            <a:endParaRPr b="0" lang="en-US" sz="1600" spc="-1" strike="noStrike">
              <a:solidFill>
                <a:srgbClr val="000000"/>
              </a:solidFill>
              <a:latin typeface="Arial"/>
            </a:endParaRPr>
          </a:p>
          <a:p>
            <a:pPr lvl="2" marL="74628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ability of the state sector to finance needed expenditures on new investment and/or maintenance. Many power utilities are financially distressed because of their poor governance environment comprising endemic corruption, rampant theft of power, political interference and an inability by stakeholders to work towards long term solutions.</a:t>
            </a:r>
            <a:endParaRPr b="0" lang="en-US" sz="1600" spc="-1" strike="noStrike">
              <a:solidFill>
                <a:srgbClr val="000000"/>
              </a:solidFill>
              <a:latin typeface="Arial"/>
            </a:endParaRPr>
          </a:p>
          <a:p>
            <a:pPr lvl="2" marL="74628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systems can be prone to corruption, gold plating of assets and prone to inefficient government intervention.</a:t>
            </a:r>
            <a:endParaRPr b="0" lang="en-US" sz="16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y of Costs Associated with State Ownership </a:t>
            </a:r>
            <a:endParaRPr b="1" lang="en-US" sz="2000" spc="-1" strike="noStrike">
              <a:solidFill>
                <a:srgbClr val="000000"/>
              </a:solidFill>
              <a:latin typeface="Arial"/>
            </a:endParaRPr>
          </a:p>
        </p:txBody>
      </p:sp>
      <p:pic>
        <p:nvPicPr>
          <p:cNvPr id="301" name="Content Placeholder 3" descr=""/>
          <p:cNvPicPr/>
          <p:nvPr/>
        </p:nvPicPr>
        <p:blipFill>
          <a:blip r:embed="rId1"/>
          <a:stretch/>
        </p:blipFill>
        <p:spPr>
          <a:xfrm>
            <a:off x="1447920" y="1295280"/>
            <a:ext cx="6400800" cy="4811760"/>
          </a:xfrm>
          <a:prstGeom prst="rect">
            <a:avLst/>
          </a:prstGeom>
          <a:ln w="0">
            <a:noFill/>
          </a:ln>
        </p:spPr>
      </p:pic>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ulated Private Ownership Model</a:t>
            </a:r>
            <a:endParaRPr b="1" lang="en-US" sz="2000" spc="-1" strike="noStrike">
              <a:solidFill>
                <a:srgbClr val="000000"/>
              </a:solidFill>
              <a:latin typeface="Arial"/>
            </a:endParaRPr>
          </a:p>
        </p:txBody>
      </p:sp>
      <p:sp>
        <p:nvSpPr>
          <p:cNvPr id="30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odel is used in the U.S. where monopoly companies are allowed to own generation, but their rates are subject to regulatory authoriti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companies may have more incentive to be efficient than state owned syst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ulatory authorities can disallow costs that are not prude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of setting rates and evaluating decisions can be transpare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ility of regulatory system creates relatively low cost of capita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 regulation can be used to encourage efficient behavi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es in Regulated and De-regulated Markets</a:t>
            </a:r>
            <a:endParaRPr b="1" lang="en-US" sz="2000" spc="-1" strike="noStrike">
              <a:solidFill>
                <a:srgbClr val="000000"/>
              </a:solidFill>
              <a:latin typeface="Arial"/>
            </a:endParaRPr>
          </a:p>
        </p:txBody>
      </p:sp>
      <p:pic>
        <p:nvPicPr>
          <p:cNvPr id="305" name="Picture 2" descr=""/>
          <p:cNvPicPr/>
          <p:nvPr/>
        </p:nvPicPr>
        <p:blipFill>
          <a:blip r:embed="rId1"/>
          <a:stretch/>
        </p:blipFill>
        <p:spPr>
          <a:xfrm>
            <a:off x="852480" y="1523880"/>
            <a:ext cx="7439040" cy="457200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ation of PURPA in California</a:t>
            </a:r>
            <a:endParaRPr b="1" lang="en-US" sz="2000" spc="-1" strike="noStrike">
              <a:solidFill>
                <a:srgbClr val="000000"/>
              </a:solidFill>
              <a:latin typeface="Arial"/>
            </a:endParaRPr>
          </a:p>
        </p:txBody>
      </p:sp>
      <p:sp>
        <p:nvSpPr>
          <p:cNvPr id="11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Offer No. 4 (ISO4)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qualifying facility (QF) based on renewable energy could sign a contract based on a fixed forecast of future electricity price. Such a QF entering a contract would be guaranteed $57/MWh in 1985, $81/MWh in 1990, and $109/MWh in 1994.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10 years the contract price reverted to the short run avoided cost, which typically would be far lower than the fixed price guarante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s-fired cogeneration units were not treated nearly as generously but were generally paid an annual average of about $25/MWh for capacity and about $25 to $30/MWh for energ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 Contracts did not have elaborate allocations of risk</a:t>
            </a:r>
            <a:endParaRPr b="0" lang="en-US" sz="1800" spc="-1" strike="noStrike">
              <a:solidFill>
                <a:srgbClr val="000000"/>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ulated Private Ownership Model</a:t>
            </a:r>
            <a:endParaRPr b="1" lang="en-US" sz="2000" spc="-1" strike="noStrike">
              <a:solidFill>
                <a:srgbClr val="000000"/>
              </a:solidFill>
              <a:latin typeface="Arial"/>
            </a:endParaRPr>
          </a:p>
        </p:txBody>
      </p:sp>
      <p:sp>
        <p:nvSpPr>
          <p:cNvPr id="30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very high administrative costs of regul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ned returns to private companies are typically higher than the cost of capital leading to inefficiencies and transfers of wealt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 regulation has involved game playing and large wealth transf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urages gold-plating and cost inefficiency (Averch and Johnson 1962).</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bad decisions borne by consum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demand decreases, prices rise as fixed cost of the regulated utility must be cover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tition at the Retail Level without Long-term Contracts</a:t>
            </a:r>
            <a:endParaRPr b="1" lang="en-US" sz="2000" spc="-1" strike="noStrike">
              <a:solidFill>
                <a:srgbClr val="000000"/>
              </a:solidFill>
              <a:latin typeface="Arial"/>
            </a:endParaRPr>
          </a:p>
        </p:txBody>
      </p:sp>
      <p:sp>
        <p:nvSpPr>
          <p:cNvPr id="30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ries around the world have used various different approaches that implement a spot market with prices that change on a hourly or half-hourly basis.  In these markets, retail consumers generally have a choice as to their supplie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markets were developed in Chile, Argentina and the U.K.  These used a pool system where electricity is sold into a pool.  These markets also had some kind of capacity uplif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egulation is used in Latin America, parts of the U.S. and Canada, much of Europe, Singapore, Philippines and South Kore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onomists and politicians believe markets which do not have any monopoly generation components will create large economic benefits.</a:t>
            </a:r>
            <a:endParaRPr b="0" lang="en-US" sz="1800" spc="-1" strike="noStrike">
              <a:solidFill>
                <a:srgbClr val="000000"/>
              </a:solidFill>
              <a:latin typeface="Arial"/>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 Competition - Benefits</a:t>
            </a:r>
            <a:endParaRPr b="1" lang="en-US" sz="2000" spc="-1" strike="noStrike">
              <a:solidFill>
                <a:srgbClr val="000000"/>
              </a:solidFill>
              <a:latin typeface="Arial"/>
            </a:endParaRPr>
          </a:p>
        </p:txBody>
      </p:sp>
      <p:sp>
        <p:nvSpPr>
          <p:cNvPr id="31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 of Competitive Syste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entities incur risks for not building the correct mix and amount of capacity.  It is the only model where investors must deal with demand and fuel price risks that are inherent in production of electric pow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es create a transparent process where investors do not concentrate resources on gaming the system, negotiating uneconomic contracts or bribing official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s move according to supply and demand where prices fall when demand falls and they rise when demand rises.  All of the other systems have the opposite effec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attract foreign capital</a:t>
            </a:r>
            <a:endParaRPr b="0" lang="en-US" sz="1800" spc="-1" strike="noStrike">
              <a:solidFill>
                <a:srgbClr val="000000"/>
              </a:solidFill>
              <a:latin typeface="Arial"/>
            </a:endParaRPr>
          </a:p>
        </p:txBody>
      </p:sp>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 Competition - Problems</a:t>
            </a:r>
            <a:endParaRPr b="1" lang="en-US" sz="2000" spc="-1" strike="noStrike">
              <a:solidFill>
                <a:srgbClr val="000000"/>
              </a:solidFill>
              <a:latin typeface="Arial"/>
            </a:endParaRPr>
          </a:p>
        </p:txBody>
      </p:sp>
      <p:sp>
        <p:nvSpPr>
          <p:cNvPr id="31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rcise of market power allows companies to extract high profits, play games and leads to inefficient outcom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capital increased in this model, making renewable investments very difficul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difficult to build long-lead time  plants such as nuclear plan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will not result in optimal investment decisions given the dramatic changes in value of electricity plan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prices can be very volatil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s do not flow to consumers as suppliers lobby for capacity payments and other items that keep prices high in depressed marke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ifornia</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yer Model with IPPs and PPAs – General  Discussion</a:t>
            </a:r>
            <a:endParaRPr b="1" lang="en-US" sz="2000" spc="-1" strike="noStrike">
              <a:solidFill>
                <a:srgbClr val="000000"/>
              </a:solidFill>
              <a:latin typeface="Arial"/>
            </a:endParaRPr>
          </a:p>
        </p:txBody>
      </p:sp>
      <p:sp>
        <p:nvSpPr>
          <p:cNvPr id="31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ments authorize private investors to build plants (IPPs) to enter into contracts (PPAs) to sell power to a national power compan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ational generation company is responsible for dispatch and balancing the system which cannot realistically be performed by multiple different compani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s protect the investors from market risks using capacity payments and take-or-pay provisi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accompanied by splitting the system into generation, transmission and distribution.  Direct contracts with distribution companies often not allow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ents the state from completely exiting from key generation functions of electricity</a:t>
            </a:r>
            <a:endParaRPr b="0" lang="en-US" sz="18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Variation in Generation Cost versus Variation in Market Prices</a:t>
            </a:r>
            <a:endParaRPr b="1" lang="en-US" sz="2000" spc="-1" strike="noStrike">
              <a:solidFill>
                <a:srgbClr val="000000"/>
              </a:solidFill>
              <a:latin typeface="Arial"/>
            </a:endParaRPr>
          </a:p>
        </p:txBody>
      </p:sp>
      <p:sp>
        <p:nvSpPr>
          <p:cNvPr id="31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es are Driven by the Marginal Energy Cost of the Pla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Generation Costs Driven by All Plants Operating on the Syste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es have more Sensitiv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es Closer Relation with Natural Gas Pric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s to Build New Plants Driven by Market Pri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yer PPA Model – Benefits and Problems</a:t>
            </a:r>
            <a:endParaRPr b="1" lang="en-US" sz="2000" spc="-1" strike="noStrike">
              <a:solidFill>
                <a:srgbClr val="000000"/>
              </a:solidFill>
              <a:latin typeface="Arial"/>
            </a:endParaRPr>
          </a:p>
        </p:txBody>
      </p:sp>
      <p:sp>
        <p:nvSpPr>
          <p:cNvPr id="31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attract private capital when governments may not have access to capita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contracts, cost of capital is lower than for merchant plants in the fully competitive mode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cy in construction cost and in operation can be encouraged through using a competitive bidding proces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fies the regulatory process as wholesale price comes from actual payments to suppli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of acquiring supply can be a transparent process using avoided co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yer PPA Model – Benefits and Problems</a:t>
            </a:r>
            <a:endParaRPr b="1" lang="en-US" sz="2000" spc="-1" strike="noStrike">
              <a:solidFill>
                <a:srgbClr val="000000"/>
              </a:solidFill>
              <a:latin typeface="Arial"/>
            </a:endParaRPr>
          </a:p>
        </p:txBody>
      </p:sp>
      <p:sp>
        <p:nvSpPr>
          <p:cNvPr id="32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expansion and capacity mix are determined by buying agency rather than entities that have their own money at risk.  This arguably leads to over supply of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create large contingent liabilities for the government related exchange rate changes and other it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ors spend a lot of time on political issues rather than evaluating the true demand and fuel price risks associated with electric pow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prone to corruption with the numerous contrac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ies are isolated from consumers and economic condition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Single Buyer or IPP Model</a:t>
            </a:r>
            <a:endParaRPr b="1" lang="en-US" sz="2000" spc="-1" strike="noStrike">
              <a:solidFill>
                <a:srgbClr val="000000"/>
              </a:solidFill>
              <a:latin typeface="Arial"/>
            </a:endParaRPr>
          </a:p>
        </p:txBody>
      </p:sp>
      <p:sp>
        <p:nvSpPr>
          <p:cNvPr id="32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any countries, the initial contracts with IPPs were concluded under non-transparent processes that attracted allegations of corruption and exposed these contracts to pressure for renegotiation that substantially reduced the investment returns for IPPs. A loss-sharing solution of lowering PPA rates in exchange for an extension of the PPA term has been the most common approach and successfully used in Pakistan, Thailand, and Guatemal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risk with the single buyer model is that government can still impose noncommercial practices on the market by manipulating the single buyer. An additional risk is that government’s commitment to full reform may weaken to avoid politically controversial consequences of introducing more privatization and competition </a:t>
            </a:r>
            <a:endParaRPr b="0" lang="en-US" sz="1800" spc="-1" strike="noStrike">
              <a:solidFill>
                <a:srgbClr val="000000"/>
              </a:solidFill>
              <a:latin typeface="Arial"/>
            </a:endParaRPr>
          </a:p>
        </p:txBody>
      </p:sp>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P Financial Failures and Success</a:t>
            </a:r>
            <a:endParaRPr b="1" lang="en-US" sz="2000" spc="-1" strike="noStrike">
              <a:solidFill>
                <a:srgbClr val="000000"/>
              </a:solidFill>
              <a:latin typeface="Arial"/>
            </a:endParaRPr>
          </a:p>
        </p:txBody>
      </p:sp>
      <p:sp>
        <p:nvSpPr>
          <p:cNvPr id="32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s in which IPPs default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bhol Plant in India</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b Project in Pakista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Energy’s Dieng and Patuha projects in Indonesia,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rida Light &amp; Power’s Karaha Bodas projects in Indonesi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cess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yp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iland</a:t>
            </a:r>
            <a:endParaRPr b="0" lang="en-US" sz="18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 Mitigation and Importance</a:t>
            </a:r>
            <a:endParaRPr b="1" lang="en-US" sz="2000" spc="-1" strike="noStrike">
              <a:solidFill>
                <a:srgbClr val="000000"/>
              </a:solidFill>
              <a:latin typeface="Arial"/>
            </a:endParaRPr>
          </a:p>
        </p:txBody>
      </p:sp>
      <p:pic>
        <p:nvPicPr>
          <p:cNvPr id="113" name="Picture 3" descr=""/>
          <p:cNvPicPr/>
          <p:nvPr/>
        </p:nvPicPr>
        <p:blipFill>
          <a:blip r:embed="rId1"/>
          <a:stretch/>
        </p:blipFill>
        <p:spPr>
          <a:xfrm>
            <a:off x="457200" y="1701720"/>
            <a:ext cx="8001000" cy="4135680"/>
          </a:xfrm>
          <a:prstGeom prst="rect">
            <a:avLst/>
          </a:prstGeom>
          <a:ln w="0">
            <a:noFill/>
          </a:ln>
        </p:spPr>
      </p:pic>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yer Model and the Asian Financial Crisis</a:t>
            </a:r>
            <a:endParaRPr b="1" lang="en-US" sz="2000" spc="-1" strike="noStrike">
              <a:solidFill>
                <a:srgbClr val="000000"/>
              </a:solidFill>
              <a:latin typeface="Arial"/>
            </a:endParaRPr>
          </a:p>
        </p:txBody>
      </p:sp>
      <p:sp>
        <p:nvSpPr>
          <p:cNvPr id="32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optimism ended with the Asian financial crisis; itself brought on by a lack of sound investment policies, in particular, in relation to government guaranteed power purchasing agree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wer purchasing agreements had inadvertently converted a shortage of power supply into an oversupply, secured by take-or-pay guarantees. The result of the crisis has been a sharp contraction in private sector investment and a significant exposure of government and private sector investors to contingent liabilitie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ntraction not only limits the capacity of governments to stimulate economic growth but also has led to the deterioration or stagnation of many partially completed and privately financed public infrastructure projects. </a:t>
            </a:r>
            <a:endParaRPr b="0" lang="en-US" sz="1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 Mitigation and Importance</a:t>
            </a:r>
            <a:endParaRPr b="1" lang="en-US" sz="2000" spc="-1" strike="noStrike">
              <a:solidFill>
                <a:srgbClr val="000000"/>
              </a:solidFill>
              <a:latin typeface="Arial"/>
            </a:endParaRPr>
          </a:p>
        </p:txBody>
      </p:sp>
      <p:pic>
        <p:nvPicPr>
          <p:cNvPr id="115" name="Picture 2" descr=""/>
          <p:cNvPicPr/>
          <p:nvPr/>
        </p:nvPicPr>
        <p:blipFill>
          <a:blip r:embed="rId1"/>
          <a:stretch/>
        </p:blipFill>
        <p:spPr>
          <a:xfrm>
            <a:off x="457200" y="1874880"/>
            <a:ext cx="8001000" cy="3801960"/>
          </a:xfrm>
          <a:prstGeom prst="rect">
            <a:avLst/>
          </a:prstGeom>
          <a:ln w="0">
            <a:noFill/>
          </a:ln>
        </p:spPr>
      </p:pic>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 Mitigation and Importance</a:t>
            </a:r>
            <a:endParaRPr b="1" lang="en-US" sz="2000" spc="-1" strike="noStrike">
              <a:solidFill>
                <a:srgbClr val="000000"/>
              </a:solidFill>
              <a:latin typeface="Arial"/>
            </a:endParaRPr>
          </a:p>
        </p:txBody>
      </p:sp>
      <p:pic>
        <p:nvPicPr>
          <p:cNvPr id="117" name="Picture 2" descr=""/>
          <p:cNvPicPr/>
          <p:nvPr/>
        </p:nvPicPr>
        <p:blipFill>
          <a:blip r:embed="rId1"/>
          <a:stretch/>
        </p:blipFill>
        <p:spPr>
          <a:xfrm>
            <a:off x="372960" y="1981080"/>
            <a:ext cx="8266320" cy="3492720"/>
          </a:xfrm>
          <a:prstGeom prst="rect">
            <a:avLst/>
          </a:prstGeom>
          <a:ln w="0">
            <a:noFill/>
          </a:ln>
        </p:spPr>
      </p:pic>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 Mitigation and Importance</a:t>
            </a:r>
            <a:endParaRPr b="1" lang="en-US" sz="2000" spc="-1" strike="noStrike">
              <a:solidFill>
                <a:srgbClr val="000000"/>
              </a:solidFill>
              <a:latin typeface="Arial"/>
            </a:endParaRPr>
          </a:p>
        </p:txBody>
      </p:sp>
      <p:pic>
        <p:nvPicPr>
          <p:cNvPr id="119" name="Picture 2" descr=""/>
          <p:cNvPicPr/>
          <p:nvPr/>
        </p:nvPicPr>
        <p:blipFill>
          <a:blip r:embed="rId1"/>
          <a:stretch/>
        </p:blipFill>
        <p:spPr>
          <a:xfrm>
            <a:off x="284040" y="2133720"/>
            <a:ext cx="8267760" cy="327636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 Mitigation and Importance</a:t>
            </a:r>
            <a:endParaRPr b="1" lang="en-US" sz="2000" spc="-1" strike="noStrike">
              <a:solidFill>
                <a:srgbClr val="000000"/>
              </a:solidFill>
              <a:latin typeface="Arial"/>
            </a:endParaRPr>
          </a:p>
        </p:txBody>
      </p:sp>
      <p:pic>
        <p:nvPicPr>
          <p:cNvPr id="121" name="Picture 2" descr=""/>
          <p:cNvPicPr/>
          <p:nvPr/>
        </p:nvPicPr>
        <p:blipFill>
          <a:blip r:embed="rId1"/>
          <a:stretch/>
        </p:blipFill>
        <p:spPr>
          <a:xfrm>
            <a:off x="457200" y="1219320"/>
            <a:ext cx="8380440" cy="4860720"/>
          </a:xfrm>
          <a:prstGeom prst="rect">
            <a:avLst/>
          </a:prstGeom>
          <a:ln w="0">
            <a:noFill/>
          </a:ln>
        </p:spPr>
      </p:pic>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 Mitigation and Importance</a:t>
            </a:r>
            <a:endParaRPr b="1" lang="en-US" sz="2000" spc="-1" strike="noStrike">
              <a:solidFill>
                <a:srgbClr val="000000"/>
              </a:solidFill>
              <a:latin typeface="Arial"/>
            </a:endParaRPr>
          </a:p>
        </p:txBody>
      </p:sp>
      <p:pic>
        <p:nvPicPr>
          <p:cNvPr id="123" name="Picture 2" descr=""/>
          <p:cNvPicPr/>
          <p:nvPr/>
        </p:nvPicPr>
        <p:blipFill>
          <a:blip r:embed="rId1"/>
          <a:stretch/>
        </p:blipFill>
        <p:spPr>
          <a:xfrm>
            <a:off x="380880" y="2133720"/>
            <a:ext cx="8480520" cy="313848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PA Contract Discussion</a:t>
            </a:r>
            <a:endParaRPr b="1" lang="en-US" sz="28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Components of PPA</a:t>
            </a:r>
            <a:endParaRPr b="1" lang="en-US" sz="2000" spc="-1" strike="noStrike">
              <a:solidFill>
                <a:srgbClr val="000000"/>
              </a:solidFill>
              <a:latin typeface="Arial"/>
            </a:endParaRPr>
          </a:p>
        </p:txBody>
      </p:sp>
      <p:sp>
        <p:nvSpPr>
          <p:cNvPr id="12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ption of Facility and Obligation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ze, facilities, general requirements</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e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 PCOD and liquated damages</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Tests and Commissioning</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ing</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 and Testing</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tion</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ce Majeure Events</a:t>
            </a:r>
            <a:endParaRPr b="0" lang="en-US" sz="1800" spc="-1" strike="noStrike">
              <a:solidFill>
                <a:srgbClr val="000000"/>
              </a:solidFill>
              <a:latin typeface="Arial"/>
            </a:endParaRPr>
          </a:p>
          <a:p>
            <a:pPr marL="2271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x/Challenging Issues -  Valuation of Detailed PPA Provisions</a:t>
            </a:r>
            <a:endParaRPr b="1" lang="en-US" sz="2000" spc="-1" strike="noStrike">
              <a:solidFill>
                <a:srgbClr val="000000"/>
              </a:solidFill>
              <a:latin typeface="Arial"/>
            </a:endParaRPr>
          </a:p>
        </p:txBody>
      </p:sp>
      <p:sp>
        <p:nvSpPr>
          <p:cNvPr id="9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bid prices for PPA with different financing terms (DSCR and Debt Structure) and different IRR requirem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of PPA contract versus balance sheet plant from the perspective of off-take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ifying SPV risks related to delay, availability, heat rate degradation, heat rate targets, construction dela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allocation and incentives for plant efficiency with respect to heat rate curves, operation and maintenance and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of renewable feed-in and PPA tariffs versus conventional PPA’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cs of development cost and probability analysis</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Purchased Power Agreement Pricing</a:t>
            </a:r>
            <a:endParaRPr b="1" lang="en-US" sz="2000" spc="-1" strike="noStrike">
              <a:solidFill>
                <a:srgbClr val="000000"/>
              </a:solidFill>
              <a:latin typeface="Arial"/>
            </a:endParaRPr>
          </a:p>
        </p:txBody>
      </p:sp>
      <p:sp>
        <p:nvSpPr>
          <p:cNvPr id="128" name=""/>
          <p:cNvSpPr txBox="1"/>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 Capacity Payment</a:t>
            </a:r>
            <a:endParaRPr b="0" lang="en-US" sz="14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rs debt service, taxes and equity return from project budget</a:t>
            </a:r>
            <a:endParaRPr b="0" lang="en-US" sz="12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ductions for unavailability of plant</a:t>
            </a:r>
            <a:endParaRPr b="0" lang="en-US" sz="12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cy  adjustments and currency split</a:t>
            </a:r>
            <a:endParaRPr b="0" lang="en-US" sz="12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 Fixed O&amp;M Charge</a:t>
            </a:r>
            <a:endParaRPr b="0" lang="en-US" sz="14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calates with general inflation</a:t>
            </a:r>
            <a:endParaRPr b="0" lang="en-US" sz="12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have currency adjustment</a:t>
            </a:r>
            <a:endParaRPr b="0" lang="en-US" sz="12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 Fuel Energy Charge</a:t>
            </a:r>
            <a:endParaRPr b="0" lang="en-US" sz="14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target heat rate</a:t>
            </a:r>
            <a:endParaRPr b="0" lang="en-US" sz="12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be only adjustments to under or over-use of fuel</a:t>
            </a:r>
            <a:endParaRPr b="0" lang="en-US" sz="12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 Variable O&amp;M Charge</a:t>
            </a:r>
            <a:endParaRPr b="0" lang="en-US" sz="14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of fixed and variable costs </a:t>
            </a:r>
            <a:endParaRPr b="0" lang="en-US" sz="12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up costs</a:t>
            </a:r>
            <a:endParaRPr b="0" lang="en-US" sz="1200" spc="-1" strike="noStrike">
              <a:solidFill>
                <a:srgbClr val="000000"/>
              </a:solidFill>
              <a:latin typeface="Arial"/>
            </a:endParaRPr>
          </a:p>
          <a:p>
            <a:pPr marL="227160" indent="-1695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Policy Objectives for Electricity</a:t>
            </a:r>
            <a:endParaRPr b="1" lang="en-US" sz="2000" spc="-1" strike="noStrike">
              <a:solidFill>
                <a:srgbClr val="000000"/>
              </a:solidFill>
              <a:latin typeface="Arial"/>
            </a:endParaRPr>
          </a:p>
        </p:txBody>
      </p:sp>
      <p:sp>
        <p:nvSpPr>
          <p:cNvPr id="13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c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mount of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of constructing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ix of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of operating and maintaining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fficiency of operating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ion of Resour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teful use of energ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teful transfer to private investors</a:t>
            </a:r>
            <a:endParaRPr b="0" lang="en-US" sz="18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llocation using Different Policy Frameworks</a:t>
            </a:r>
            <a:endParaRPr b="1" lang="en-US" sz="2000" spc="-1" strike="noStrike">
              <a:solidFill>
                <a:srgbClr val="000000"/>
              </a:solidFill>
              <a:latin typeface="Arial"/>
            </a:endParaRPr>
          </a:p>
        </p:txBody>
      </p:sp>
      <p:sp>
        <p:nvSpPr>
          <p:cNvPr id="132" name=""/>
          <p:cNvSpPr txBox="1"/>
          <p:nvPr/>
        </p:nvSpPr>
        <p:spPr>
          <a:xfrm>
            <a:off x="456840" y="1219320"/>
            <a:ext cx="7924680" cy="487656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 of Risk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 Cost Risk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and and Load Growth Risk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lation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hange Rate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el Price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t Rate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acity Over or Undersupply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t Availability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ion Delay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acity Factor and Dispatch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on and Maintenance Cost Risk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 of Risks in Electricity Industry</a:t>
            </a:r>
            <a:endParaRPr b="1" lang="en-US" sz="2000" spc="-1" strike="noStrike">
              <a:solidFill>
                <a:srgbClr val="000000"/>
              </a:solidFill>
              <a:latin typeface="Arial"/>
            </a:endParaRPr>
          </a:p>
        </p:txBody>
      </p:sp>
      <p:sp>
        <p:nvSpPr>
          <p:cNvPr id="13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Definition of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 Deviation and Mathematical Formulas (Nobel Prize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s of Extreme Events (Outages, Price Spike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ortance of Risk in Considering Policy Alternative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ernative Perspectives of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umer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rchant Supplier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P Supplier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ulated Companie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s of Risk Measurement</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 of Electricity to Supplier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Generation Cost to Consumers</a:t>
            </a:r>
            <a:endParaRPr b="0" lang="en-US" sz="14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ferring Risk</a:t>
            </a:r>
            <a:endParaRPr b="1" lang="en-US" sz="2000" spc="-1" strike="noStrike">
              <a:solidFill>
                <a:srgbClr val="000000"/>
              </a:solidFill>
              <a:latin typeface="Arial"/>
            </a:endParaRPr>
          </a:p>
        </p:txBody>
      </p:sp>
      <p:sp>
        <p:nvSpPr>
          <p:cNvPr id="13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ins in efficiency by imposing risk on parties that are in the best position to understand and to manage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gument that better economic decisions will be made if equity investors must take risk</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unt of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 of capac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that can be managed and controlled is subject to some deb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pri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hange rates</a:t>
            </a:r>
            <a:endParaRPr b="0" lang="en-US" sz="1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Risk in Market Prices of Electricity and Merchant Power</a:t>
            </a:r>
            <a:endParaRPr b="1" lang="en-US" sz="2000" spc="-1" strike="noStrike">
              <a:solidFill>
                <a:srgbClr val="000000"/>
              </a:solidFill>
              <a:latin typeface="Arial"/>
            </a:endParaRPr>
          </a:p>
        </p:txBody>
      </p:sp>
      <p:sp>
        <p:nvSpPr>
          <p:cNvPr id="13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 Volatil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tion in Hydro and Other Renewable Resour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New Suppl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certainty in Fuel Supply Cos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efficiencies and Market Powe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Technology</a:t>
            </a:r>
            <a:endParaRPr b="0" lang="en-US" sz="18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Example</a:t>
            </a:r>
            <a:endParaRPr b="1" lang="en-US" sz="2000" spc="-1" strike="noStrike">
              <a:solidFill>
                <a:srgbClr val="000000"/>
              </a:solidFill>
              <a:latin typeface="Arial"/>
            </a:endParaRPr>
          </a:p>
        </p:txBody>
      </p:sp>
      <p:sp>
        <p:nvSpPr>
          <p:cNvPr id="140" name=""/>
          <p:cNvSpPr txBox="1"/>
          <p:nvPr/>
        </p:nvSpPr>
        <p:spPr>
          <a:xfrm>
            <a:off x="685440" y="1295280"/>
            <a:ext cx="7620120" cy="4572000"/>
          </a:xfrm>
          <a:prstGeom prst="rect">
            <a:avLst/>
          </a:prstGeom>
          <a:noFill/>
          <a:ln w="0">
            <a:noFill/>
          </a:ln>
        </p:spPr>
        <p:txBody>
          <a:bodyPr lIns="92160" rIns="92160" tIns="46080" bIns="46080" anchor="t">
            <a:normAutofit/>
          </a:bodyPr>
          <a:p>
            <a:pPr marL="231840" indent="-1731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Power Purchase Agreements are dispatchable contracts that provide the utilities with the ability to suspend or reduce purchases of electricity from the Facilities. The Power Purchase Agreements are structured such that the SPV will continue to receive capacity payments during any period of dispatch. Each SPV is dependent on capacity payments under its PPA to meet its fixed obligations, including the payment of debt service under each SPV's First Mortgage Bonds.</a:t>
            </a:r>
            <a:endParaRPr b="0" lang="en-US" sz="1500" spc="-1" strike="noStrike">
              <a:solidFill>
                <a:srgbClr val="000000"/>
              </a:solidFill>
              <a:latin typeface="Arial"/>
            </a:endParaRPr>
          </a:p>
          <a:p>
            <a:pPr marL="231840" indent="-1731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pacity payments by each of off-taker are based on the tested capacity and availability of the Facilities and are unaffected by levels of dispatch. Each Facility's capacity is subject to semi-annual verification through testing. Capacity payments are subject to reduction if a Facility is operating at reduced or degraded capacity at the time of such test, although each Facility is permitted a retest subject to certain retest limitations. Also, capacity payments for each Facility are subject to reduction if the respective Facility does not maintain certain minimum levels of availability. </a:t>
            </a:r>
            <a:endParaRPr b="0" lang="en-US" sz="1500" spc="-1" strike="noStrike">
              <a:solidFill>
                <a:srgbClr val="000000"/>
              </a:solidFill>
              <a:latin typeface="Arial"/>
            </a:endParaRPr>
          </a:p>
          <a:p>
            <a:pPr marL="231840" indent="-1731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SPV expects to achieve the minimum capacity and availability levels; however, any material shortfall in tested capacity or availability over a significant period could result in a shortage of funds to the SPV. </a:t>
            </a:r>
            <a:endParaRPr b="0" lang="en-US" sz="1500" spc="-1" strike="noStrike">
              <a:solidFill>
                <a:srgbClr val="000000"/>
              </a:solidFill>
              <a:latin typeface="Arial"/>
            </a:endParaRPr>
          </a:p>
          <a:p>
            <a:pPr marL="231840" indent="-1731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31840" indent="-1731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s of SPV – Discussion in Financial Statement</a:t>
            </a:r>
            <a:endParaRPr b="1" lang="en-US" sz="2000" spc="-1" strike="noStrike">
              <a:solidFill>
                <a:srgbClr val="000000"/>
              </a:solidFill>
              <a:latin typeface="Arial"/>
            </a:endParaRPr>
          </a:p>
        </p:txBody>
      </p:sp>
      <p:sp>
        <p:nvSpPr>
          <p:cNvPr id="142" name=""/>
          <p:cNvSpPr txBox="1"/>
          <p:nvPr/>
        </p:nvSpPr>
        <p:spPr>
          <a:xfrm>
            <a:off x="837720" y="1294920"/>
            <a:ext cx="7620120" cy="4800600"/>
          </a:xfrm>
          <a:prstGeom prst="rect">
            <a:avLst/>
          </a:prstGeom>
          <a:noFill/>
          <a:ln w="0">
            <a:noFill/>
          </a:ln>
        </p:spPr>
        <p:txBody>
          <a:bodyPr lIns="92160" rIns="92160" tIns="46080" bIns="46080" anchor="t">
            <a:normAutofit fontScale="97000"/>
          </a:bodyPr>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formance of a Facility below expected levels of output or efficiency</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ruptions in fuel supply</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peline disruptions</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ruptions in the supply of thermal or electrical energy</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 shut-downs due to the breakdown or failure of equipment or processes</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olation of permit requirements (whether through operation or change in law)</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or error</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bor disputes</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astrophic events such as fires, earthquakes, explosions, floods or other similar occurrences affecting a Facility or its power purchasers, thermal energy purchasers, fuel suppliers or fuel transporters. </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all risks are insured and the proceeds of such insurance applicable to covered risks may not be adequate to cover a Facility's lost revenues or increased expenses. In addition, extended unavailability under the Power Purchase Agreements, which may result from one or more of such events, may entitle the respective Power Purchaser to terminate its Power Purchase Agreement. </a:t>
            </a:r>
            <a:endParaRPr b="0" lang="en-US" sz="14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Pricing and Energy Conversion Agreement Example</a:t>
            </a:r>
            <a:endParaRPr b="1" lang="en-US" sz="2000" spc="-1" strike="noStrike">
              <a:solidFill>
                <a:srgbClr val="000000"/>
              </a:solidFill>
              <a:latin typeface="Arial"/>
            </a:endParaRPr>
          </a:p>
        </p:txBody>
      </p:sp>
      <p:sp>
        <p:nvSpPr>
          <p:cNvPr id="144" name=""/>
          <p:cNvSpPr txBox="1"/>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each month of the term after the commercial operation date, off-taker must pay the SPV for the facility’s net capacity, successful start-ups and associated shutdowns, other services and fuel conversion services at the applicable rates described in the PPA. </a:t>
            </a:r>
            <a:endParaRPr b="0" lang="en-US" sz="1400" spc="-1" strike="noStrike">
              <a:solidFill>
                <a:srgbClr val="000000"/>
              </a:solidFill>
              <a:latin typeface="Arial"/>
            </a:endParaRPr>
          </a:p>
          <a:p>
            <a:pPr marL="227160" indent="-1695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monthly payment will consist of</a:t>
            </a:r>
            <a:endParaRPr b="0" lang="en-US" sz="14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total fixed payment, </a:t>
            </a:r>
            <a:endParaRPr b="0" lang="en-US" sz="14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uel conversion payment and,</a:t>
            </a:r>
            <a:endParaRPr b="0" lang="en-US" sz="14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 start-up payment. </a:t>
            </a:r>
            <a:endParaRPr b="0" lang="en-US" sz="1400" spc="-1" strike="noStrike">
              <a:solidFill>
                <a:srgbClr val="000000"/>
              </a:solidFill>
              <a:latin typeface="Arial"/>
            </a:endParaRPr>
          </a:p>
          <a:p>
            <a:pPr marL="227160" indent="-1695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otal fixed payment, which is payable regardless of facility dispatch but is subject to adjustment based on facility availability, is calculated by multiplying a fixed capacity rate for each contract year by the facility’s net capacity in the billing month and is anticipated to be sufficient to cover the SPV’s debt service and fixed operating and maintenance costs and to provide the Company a return on equity. </a:t>
            </a:r>
            <a:endParaRPr b="0" lang="en-US" sz="1400" spc="-1" strike="noStrike">
              <a:solidFill>
                <a:srgbClr val="000000"/>
              </a:solidFill>
              <a:latin typeface="Arial"/>
            </a:endParaRPr>
          </a:p>
          <a:p>
            <a:pPr marL="227160" indent="-1695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uel conversion payment is intended to cover the SPV’s variable operating and maintenance costs and escalates annually based on an escalation index described in the PPA. The start-up payment is intended to cover the SPV’s non-fuel variable costs when the plant is starting up to meet a dispatch request. In addition, the SPV may receive heat rate bonuses or be required to pay heat rate penalties.</a:t>
            </a:r>
            <a:endParaRPr b="0" lang="en-US" sz="14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Example</a:t>
            </a:r>
            <a:endParaRPr b="1" lang="en-US" sz="2000" spc="-1" strike="noStrike">
              <a:solidFill>
                <a:srgbClr val="000000"/>
              </a:solidFill>
              <a:latin typeface="Arial"/>
            </a:endParaRPr>
          </a:p>
        </p:txBody>
      </p:sp>
      <p:sp>
        <p:nvSpPr>
          <p:cNvPr id="14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payments remain relatively stable because the amounts do not vary with dispatch. Price increases are contractually provided.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payments include a bonus or penalty payment if actual capacity is in excess of or below specified levels of available capacity.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al cost component of the energy payment is derived from a contractual formula defined in the PPA based on the actual cost of domestic coal at another FPL plan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al cost component is escalated according to the index in the  long- term domestic coal contract.</a:t>
            </a:r>
            <a:endParaRPr b="0" lang="en-US" sz="18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x/Challenging Issues for Project Finance and Modelling</a:t>
            </a:r>
            <a:endParaRPr b="1" lang="en-US" sz="2000" spc="-1" strike="noStrike">
              <a:solidFill>
                <a:srgbClr val="000000"/>
              </a:solidFill>
              <a:latin typeface="Arial"/>
            </a:endParaRPr>
          </a:p>
        </p:txBody>
      </p:sp>
      <p:sp>
        <p:nvSpPr>
          <p:cNvPr id="95" name=""/>
          <p:cNvSpPr txBox="1"/>
          <p:nvPr/>
        </p:nvSpPr>
        <p:spPr>
          <a:xfrm>
            <a:off x="762120" y="1523880"/>
            <a:ext cx="7619760" cy="4572000"/>
          </a:xfrm>
          <a:prstGeom prst="rect">
            <a:avLst/>
          </a:prstGeom>
          <a:noFill/>
          <a:ln w="0">
            <a:noFill/>
          </a:ln>
        </p:spPr>
        <p:txBody>
          <a:bodyPr lIns="92160" rIns="92160" tIns="46080" bIns="46080" anchor="t">
            <a:normAutofit fontScale="97000"/>
          </a:bodyPr>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s of sculpting and timing of draw-downs</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ling of Equity IRR with Equity Bridge Loan</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of risks related to currency changes and interest rate changes</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 of the credit quality of the off-taker</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ment of the PPA price relative to the economic cost of electricity</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ification of risks associated with risks that are allocated to off-taker and risks that remain with SPV for purposes of negotiating specific terms</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ming Issues including resolution of circular references/cash flow waterfalls, structuring of time lines</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structuring provisions related to covenants, cash flow sweeps, back-up facilities and debt service reserve account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ergy  Conversion Agreement</a:t>
            </a:r>
            <a:endParaRPr b="1" lang="en-US" sz="2000" spc="-1" strike="noStrike">
              <a:solidFill>
                <a:srgbClr val="000000"/>
              </a:solidFill>
              <a:latin typeface="Arial"/>
            </a:endParaRPr>
          </a:p>
        </p:txBody>
      </p:sp>
      <p:sp>
        <p:nvSpPr>
          <p:cNvPr id="14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taker will be responsible for supplying the Project Company with gas on an energy conversion basi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lant’s gas will be supplied to the Plant via the Fuel Connection Facilities (“FCF”), which will include a gas interconnection to an existing pipeline near the Site. </a:t>
            </a:r>
            <a:endParaRPr b="0" lang="en-US" sz="18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acity Payment</a:t>
            </a:r>
            <a:endParaRPr b="1" lang="en-US" sz="2000" spc="-1" strike="noStrike">
              <a:solidFill>
                <a:srgbClr val="000000"/>
              </a:solidFill>
              <a:latin typeface="Arial"/>
            </a:endParaRPr>
          </a:p>
        </p:txBody>
      </p:sp>
      <p:sp>
        <p:nvSpPr>
          <p:cNvPr id="15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ncing on the Commercial Operation Date and for the remainder of the Term, the  off-taker shall pay the Capacity Payment, on a monthly basis in arrears, regardless of whether the off-taker requests that the Seller deliver Energy from the Facility.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Capacity Payment shall be a monthly charge established as of the Department Commitment Time for each calendar year based on a formula and allocated among months (shaped) on a $ per MW-mo basis and include a separate component that covers debt service,  equity returns and taxes and a component that covers fixed operation and maintenance expens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mand Risk</a:t>
            </a:r>
            <a:endParaRPr b="1" lang="en-US" sz="28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ic Loads and Load Forecast</a:t>
            </a:r>
            <a:endParaRPr b="1" lang="en-US" sz="2000" spc="-1" strike="noStrike">
              <a:solidFill>
                <a:srgbClr val="000000"/>
              </a:solidFill>
              <a:latin typeface="Arial"/>
            </a:endParaRPr>
          </a:p>
        </p:txBody>
      </p:sp>
      <p:pic>
        <p:nvPicPr>
          <p:cNvPr id="153" name="Picture 2" descr=""/>
          <p:cNvPicPr/>
          <p:nvPr/>
        </p:nvPicPr>
        <p:blipFill>
          <a:blip r:embed="rId1"/>
          <a:stretch/>
        </p:blipFill>
        <p:spPr>
          <a:xfrm>
            <a:off x="306360" y="1295280"/>
            <a:ext cx="8069400" cy="5105520"/>
          </a:xfrm>
          <a:prstGeom prst="rect">
            <a:avLst/>
          </a:prstGeom>
          <a:ln w="0">
            <a:noFill/>
          </a:ln>
        </p:spPr>
      </p:pic>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hanges in Demand</a:t>
            </a:r>
            <a:endParaRPr b="1" lang="en-US" sz="2000" spc="-1" strike="noStrike">
              <a:solidFill>
                <a:srgbClr val="000000"/>
              </a:solidFill>
              <a:latin typeface="Arial"/>
            </a:endParaRPr>
          </a:p>
        </p:txBody>
      </p:sp>
      <p:pic>
        <p:nvPicPr>
          <p:cNvPr id="155" name="Content Placeholder 3" descr=""/>
          <p:cNvPicPr/>
          <p:nvPr/>
        </p:nvPicPr>
        <p:blipFill>
          <a:blip r:embed="rId1"/>
          <a:stretch/>
        </p:blipFill>
        <p:spPr>
          <a:xfrm>
            <a:off x="304920" y="1981080"/>
            <a:ext cx="4038480" cy="3048120"/>
          </a:xfrm>
          <a:prstGeom prst="rect">
            <a:avLst/>
          </a:prstGeom>
          <a:ln w="0">
            <a:noFill/>
          </a:ln>
        </p:spPr>
      </p:pic>
      <p:pic>
        <p:nvPicPr>
          <p:cNvPr id="156" name="Picture 5" descr=""/>
          <p:cNvPicPr/>
          <p:nvPr/>
        </p:nvPicPr>
        <p:blipFill>
          <a:blip r:embed="rId2"/>
          <a:stretch/>
        </p:blipFill>
        <p:spPr>
          <a:xfrm>
            <a:off x="4419720" y="2057400"/>
            <a:ext cx="4114800" cy="2971800"/>
          </a:xfrm>
          <a:prstGeom prst="rect">
            <a:avLst/>
          </a:prstGeom>
          <a:ln w="0">
            <a:noFill/>
          </a:ln>
        </p:spPr>
      </p:pic>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rors in Demand Forecast From Using Historic Trends</a:t>
            </a:r>
            <a:endParaRPr b="1" lang="en-US" sz="2000" spc="-1" strike="noStrike">
              <a:solidFill>
                <a:srgbClr val="000000"/>
              </a:solidFill>
              <a:latin typeface="Arial"/>
            </a:endParaRPr>
          </a:p>
        </p:txBody>
      </p:sp>
      <p:pic>
        <p:nvPicPr>
          <p:cNvPr id="158" name="Content Placeholder 3" descr=""/>
          <p:cNvPicPr/>
          <p:nvPr/>
        </p:nvPicPr>
        <p:blipFill>
          <a:blip r:embed="rId1"/>
          <a:stretch/>
        </p:blipFill>
        <p:spPr>
          <a:xfrm>
            <a:off x="1220760" y="1523880"/>
            <a:ext cx="6702480" cy="4572000"/>
          </a:xfrm>
          <a:prstGeom prst="rect">
            <a:avLst/>
          </a:prstGeom>
          <a:ln w="0">
            <a:noFill/>
          </a:ln>
        </p:spPr>
      </p:pic>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ustrial Comparison</a:t>
            </a:r>
            <a:endParaRPr b="1" lang="en-US" sz="2000" spc="-1" strike="noStrike">
              <a:solidFill>
                <a:srgbClr val="000000"/>
              </a:solidFill>
              <a:latin typeface="Arial"/>
            </a:endParaRPr>
          </a:p>
        </p:txBody>
      </p:sp>
      <p:pic>
        <p:nvPicPr>
          <p:cNvPr id="160" name="Picture 2" descr=""/>
          <p:cNvPicPr/>
          <p:nvPr/>
        </p:nvPicPr>
        <p:blipFill>
          <a:blip r:embed="rId1"/>
          <a:stretch/>
        </p:blipFill>
        <p:spPr>
          <a:xfrm>
            <a:off x="1219320" y="1295280"/>
            <a:ext cx="6705360" cy="4876920"/>
          </a:xfrm>
          <a:prstGeom prst="rect">
            <a:avLst/>
          </a:prstGeom>
          <a:ln w="0">
            <a:noFill/>
          </a:ln>
        </p:spPr>
      </p:pic>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pply and Demand Balance Risk</a:t>
            </a:r>
            <a:endParaRPr b="1" lang="en-US" sz="28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rplus Capacity Risk</a:t>
            </a:r>
            <a:endParaRPr b="1" lang="en-US" sz="2000" spc="-1" strike="noStrike">
              <a:solidFill>
                <a:srgbClr val="000000"/>
              </a:solidFill>
              <a:latin typeface="Arial"/>
            </a:endParaRPr>
          </a:p>
        </p:txBody>
      </p:sp>
      <p:pic>
        <p:nvPicPr>
          <p:cNvPr id="163" name="Picture 2" descr=""/>
          <p:cNvPicPr/>
          <p:nvPr/>
        </p:nvPicPr>
        <p:blipFill>
          <a:blip r:embed="rId1"/>
          <a:stretch/>
        </p:blipFill>
        <p:spPr>
          <a:xfrm>
            <a:off x="1295280" y="1054080"/>
            <a:ext cx="6934320" cy="5224320"/>
          </a:xfrm>
          <a:prstGeom prst="rect">
            <a:avLst/>
          </a:prstGeom>
          <a:ln w="0">
            <a:noFill/>
          </a:ln>
        </p:spPr>
      </p:pic>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K Oversupply in Merchant Market</a:t>
            </a:r>
            <a:endParaRPr b="1" lang="en-US" sz="2000" spc="-1" strike="noStrike">
              <a:solidFill>
                <a:srgbClr val="000000"/>
              </a:solidFill>
              <a:latin typeface="Arial"/>
            </a:endParaRPr>
          </a:p>
        </p:txBody>
      </p:sp>
      <p:pic>
        <p:nvPicPr>
          <p:cNvPr id="165" name="Picture 7" descr=""/>
          <p:cNvPicPr/>
          <p:nvPr/>
        </p:nvPicPr>
        <p:blipFill>
          <a:blip r:embed="rId1"/>
          <a:stretch/>
        </p:blipFill>
        <p:spPr>
          <a:xfrm>
            <a:off x="1143000" y="1447920"/>
            <a:ext cx="6388200" cy="463536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nts</a:t>
            </a:r>
            <a:endParaRPr b="1" lang="en-US" sz="2000" spc="-1" strike="noStrike">
              <a:solidFill>
                <a:srgbClr val="000000"/>
              </a:solidFill>
              <a:latin typeface="Arial"/>
            </a:endParaRPr>
          </a:p>
        </p:txBody>
      </p:sp>
      <p:sp>
        <p:nvSpPr>
          <p:cNvPr id="97" name=""/>
          <p:cNvSpPr txBox="1"/>
          <p:nvPr/>
        </p:nvSpPr>
        <p:spPr>
          <a:xfrm>
            <a:off x="609480" y="1371240"/>
            <a:ext cx="7772400" cy="472428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 and Definition of IPP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Ter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Alloc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 Discuss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icity Policy Alternatives and IPP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gentina and Chile Case: Government Ownership</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ifornia Case: Competitive Generation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ilippines Case: IPP Mode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clear Plants in U.S.: Regulated Rat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ng of Plants with PPA’s</a:t>
            </a:r>
            <a:endParaRPr b="0" lang="en-US" sz="1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atility in Energy Value  for NGCC – PJM Market</a:t>
            </a:r>
            <a:endParaRPr b="1" lang="en-US" sz="2000" spc="-1" strike="noStrike">
              <a:solidFill>
                <a:srgbClr val="000000"/>
              </a:solidFill>
              <a:latin typeface="Arial"/>
            </a:endParaRPr>
          </a:p>
        </p:txBody>
      </p:sp>
      <p:pic>
        <p:nvPicPr>
          <p:cNvPr id="167" name="Picture 2" descr=""/>
          <p:cNvPicPr/>
          <p:nvPr/>
        </p:nvPicPr>
        <p:blipFill>
          <a:blip r:embed="rId1"/>
          <a:stretch/>
        </p:blipFill>
        <p:spPr>
          <a:xfrm>
            <a:off x="1427040" y="1523880"/>
            <a:ext cx="6289920" cy="4572000"/>
          </a:xfrm>
          <a:prstGeom prst="rect">
            <a:avLst/>
          </a:prstGeom>
          <a:ln w="0">
            <a:noFill/>
          </a:ln>
        </p:spPr>
      </p:pic>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s on Risks Associated with Surplus Supply</a:t>
            </a:r>
            <a:endParaRPr b="1" lang="en-US" sz="2000" spc="-1" strike="noStrike">
              <a:solidFill>
                <a:srgbClr val="000000"/>
              </a:solidFill>
              <a:latin typeface="Arial"/>
            </a:endParaRPr>
          </a:p>
        </p:txBody>
      </p:sp>
      <p:sp>
        <p:nvSpPr>
          <p:cNvPr id="16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estructive consequence of operating in a fragmented industry with low barriers to entry is a susceptibility to “book-bust” cycles, not unlike mining, chemical, and pulp and paper industrie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umpiness with which new generation enters the market and its longevity may threaten extended time frames at the bottom of the merchant business cycl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merchant power industry appears to be reaching the end of a build-out period, energy merchants will likely have to confront surplus reserve margins for years to come. </a:t>
            </a:r>
            <a:endParaRPr b="0" lang="en-US" sz="18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uel Price Risk</a:t>
            </a:r>
            <a:endParaRPr b="1" lang="en-US" sz="28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PPA Provisions</a:t>
            </a:r>
            <a:endParaRPr b="1" lang="en-US" sz="2000" spc="-1" strike="noStrike">
              <a:solidFill>
                <a:srgbClr val="000000"/>
              </a:solidFill>
              <a:latin typeface="Arial"/>
            </a:endParaRPr>
          </a:p>
        </p:txBody>
      </p:sp>
      <p:sp>
        <p:nvSpPr>
          <p:cNvPr id="17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ty of Government Provides Fuel Supply to IPP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Conversion Agreement (EC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P Provides an Approved Fuel Pla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Price from Published Index</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s Price from Weighted Average Gas Price of Utility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el Supply Contracts and Matching Costs</a:t>
            </a:r>
            <a:endParaRPr b="1" lang="en-US" sz="2000" spc="-1" strike="noStrike">
              <a:solidFill>
                <a:srgbClr val="000000"/>
              </a:solidFill>
              <a:latin typeface="Arial"/>
            </a:endParaRPr>
          </a:p>
        </p:txBody>
      </p:sp>
      <p:sp>
        <p:nvSpPr>
          <p:cNvPr id="17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as supply contracts provide 100% of the expected gas requirements of the plant. The gas price components of the gas supply agreements are priced at market based indices and are structured to provide matching changes in energy payments under the PPA.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umber of events negatively impacted the business and prospects of the gas supplier resulting in downgrades in the credit ratings to non-investment grade by each of the major rating agencie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ailure to perform under the gas supply contracts may have a material adverse effect on the SPV. While management believes that alternative natural gas supplies at market-based prices can be obtained so as to ensure against interruption, no assurance can be given that the replacement arrangements would have terms commercially equivalent to the contrac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atility in Fuel Prices – Source World Bank Site</a:t>
            </a:r>
            <a:endParaRPr b="1" lang="en-US" sz="2000" spc="-1" strike="noStrike">
              <a:solidFill>
                <a:srgbClr val="000000"/>
              </a:solidFill>
              <a:latin typeface="Arial"/>
            </a:endParaRPr>
          </a:p>
        </p:txBody>
      </p:sp>
      <p:pic>
        <p:nvPicPr>
          <p:cNvPr id="176" name="Picture 1" descr=""/>
          <p:cNvPicPr/>
          <p:nvPr/>
        </p:nvPicPr>
        <p:blipFill>
          <a:blip r:embed="rId1"/>
          <a:stretch/>
        </p:blipFill>
        <p:spPr>
          <a:xfrm>
            <a:off x="1143000" y="1309680"/>
            <a:ext cx="6629400" cy="4819680"/>
          </a:xfrm>
          <a:prstGeom prst="rect">
            <a:avLst/>
          </a:prstGeom>
          <a:ln w="0">
            <a:noFill/>
          </a:ln>
        </p:spPr>
      </p:pic>
      <p:sp>
        <p:nvSpPr>
          <p:cNvPr id="177" name="TextBox 6"/>
          <p:cNvSpPr/>
          <p:nvPr/>
        </p:nvSpPr>
        <p:spPr>
          <a:xfrm>
            <a:off x="838080" y="6324480"/>
            <a:ext cx="7772400" cy="459000"/>
          </a:xfrm>
          <a:prstGeom prst="rect">
            <a:avLst/>
          </a:prstGeom>
          <a:solidFill>
            <a:srgbClr val="c2fff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iteresources.worldbank.org/INTPROSPECTS/Resources/334934-1304428586133/PINK_DATA.xlsx</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il Price Errors from EIA</a:t>
            </a:r>
            <a:endParaRPr b="1" lang="en-US" sz="2000" spc="-1" strike="noStrike">
              <a:solidFill>
                <a:srgbClr val="000000"/>
              </a:solidFill>
              <a:latin typeface="Arial"/>
            </a:endParaRPr>
          </a:p>
        </p:txBody>
      </p:sp>
      <p:pic>
        <p:nvPicPr>
          <p:cNvPr id="179" name="Picture 4" descr=""/>
          <p:cNvPicPr/>
          <p:nvPr/>
        </p:nvPicPr>
        <p:blipFill>
          <a:blip r:embed="rId1"/>
          <a:stretch/>
        </p:blipFill>
        <p:spPr>
          <a:xfrm>
            <a:off x="838080" y="1295280"/>
            <a:ext cx="6986880" cy="4757760"/>
          </a:xfrm>
          <a:prstGeom prst="rect">
            <a:avLst/>
          </a:prstGeom>
          <a:ln w="0">
            <a:noFill/>
          </a:ln>
        </p:spPr>
      </p:pic>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thly Electricity and Gas Prices – Higher Correlation</a:t>
            </a:r>
            <a:endParaRPr b="1" lang="en-US" sz="2000" spc="-1" strike="noStrike">
              <a:solidFill>
                <a:srgbClr val="000000"/>
              </a:solidFill>
              <a:latin typeface="Arial"/>
            </a:endParaRPr>
          </a:p>
        </p:txBody>
      </p:sp>
      <p:sp>
        <p:nvSpPr>
          <p:cNvPr id="18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dbodmer.com</a:t>
            </a:r>
            <a:endParaRPr b="0" lang="en-US" sz="1200" spc="-1" strike="noStrike">
              <a:solidFill>
                <a:srgbClr val="000000"/>
              </a:solidFill>
              <a:latin typeface="Arial"/>
            </a:endParaRPr>
          </a:p>
        </p:txBody>
      </p:sp>
      <p:pic>
        <p:nvPicPr>
          <p:cNvPr id="182" name="Content Placeholder 6" descr=""/>
          <p:cNvPicPr/>
          <p:nvPr/>
        </p:nvPicPr>
        <p:blipFill>
          <a:blip r:embed="rId1"/>
          <a:stretch/>
        </p:blipFill>
        <p:spPr>
          <a:xfrm>
            <a:off x="682560" y="1596960"/>
            <a:ext cx="7931160" cy="4230720"/>
          </a:xfrm>
          <a:prstGeom prst="rect">
            <a:avLst/>
          </a:prstGeom>
          <a:ln w="0">
            <a:noFill/>
          </a:ln>
        </p:spPr>
      </p:pic>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Discussion</a:t>
            </a:r>
            <a:endParaRPr b="1" lang="en-US" sz="2000" spc="-1" strike="noStrike">
              <a:solidFill>
                <a:srgbClr val="000000"/>
              </a:solidFill>
              <a:latin typeface="Arial"/>
            </a:endParaRPr>
          </a:p>
        </p:txBody>
      </p:sp>
      <p:sp>
        <p:nvSpPr>
          <p:cNvPr id="18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any areas of the world, plants on the margin are often natural gas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s plants can be less exposed to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generation cost is less sensitive to natural gas pri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lation between various fuel pri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cy in Purchasing Fuel</a:t>
            </a:r>
            <a:endParaRPr b="0" lang="en-US" sz="18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Examples for Fuel Component</a:t>
            </a:r>
            <a:endParaRPr b="1" lang="en-US" sz="2000" spc="-1" strike="noStrike">
              <a:solidFill>
                <a:srgbClr val="000000"/>
              </a:solidFill>
              <a:latin typeface="Arial"/>
            </a:endParaRPr>
          </a:p>
        </p:txBody>
      </p:sp>
      <p:sp>
        <p:nvSpPr>
          <p:cNvPr id="186" name=""/>
          <p:cNvSpPr txBox="1"/>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ower purchase agreements for our facilities typically include a fixed capacity payment, an escalating operations and maintenance payment tied to an inflation index and a fuel expense component tied to the utility's weighted average cost of gas ("WACOG") or another measure. The fuel components of the Camden and Bayonne power purchase agreements historically have been well correlated to our actual fuel costs. The fuel component in one of the Bayonne agreements is based on the utility's prior year's WACOG resulting in a lag between reimbursement of fuel costs and actual costs. </a:t>
            </a:r>
            <a:endParaRPr b="0" lang="en-US" sz="1400" spc="-1" strike="noStrike">
              <a:solidFill>
                <a:srgbClr val="000000"/>
              </a:solidFill>
              <a:latin typeface="Arial"/>
            </a:endParaRPr>
          </a:p>
          <a:p>
            <a:pPr marL="229320" indent="-171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uel component in the Linden power purchase agreement is based on a cap indexed to the purchaser's, Con Ed's, weighted average cost of gas. Con Ed reimburses the project for its actual fuel costs throughout the year. At the end of the contract year, actual costs are compared to the cap. If Linden Venture's fuel costs exceed the cap, Linden Venture reimburses Con Ed for the excess over the next 12 months. If fuel costs are below the cap, Linden Venture and Con Ed split the difference on a 50/50 basis and Con Ed reimburses Linden Venture for its share of the savings over the next 12 months. Linden Venture‘s fuel costs have exceeded the cap established by Con Ed's WACOG in four of the past six years. Con Ed purchases gas both for distribution to its local gas customers and as fuel for its gas-fired generating plants. Linden Venture's results were adversely affected by a nuclear plant outage which increased Con Ed's gas purchases to run gas-fired power plants and therefore lowered Con Ed's WACOG. Distributions to us from Linden Venture will continue to be impacted by our ability to manage our fuel costs against Con Ed's WACOG. </a:t>
            </a:r>
            <a:endParaRPr b="0" lang="en-US" sz="14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pendent Power Production</a:t>
            </a:r>
            <a:endParaRPr b="1" lang="en-US" sz="2000" spc="-1" strike="noStrike">
              <a:solidFill>
                <a:srgbClr val="000000"/>
              </a:solidFill>
              <a:latin typeface="Arial"/>
            </a:endParaRPr>
          </a:p>
        </p:txBody>
      </p:sp>
      <p:sp>
        <p:nvSpPr>
          <p:cNvPr id="9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 "independent power producer" has been used to refer to several types of enterprises.  In general, "IPP" refers to a privately developed power plant that sells electricity to a public electricity grid, often under long term contract with a state utility.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ead actors in every IPP are private investors. The classic foreign-sponsored, project-financed IPP has taken root in more than fifty emerging countries that display wide variation in economic, political and social environ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IPPs sign long term PPAs, they generally accepted construction and operating risks. IPPs are generally insulated under the terms of their PPAs against demand risk, dispatch risk, price risk, and exchange rate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iciency in Fuel Contracting</a:t>
            </a:r>
            <a:endParaRPr b="1" lang="en-US" sz="2000" spc="-1" strike="noStrike">
              <a:solidFill>
                <a:srgbClr val="000000"/>
              </a:solidFill>
              <a:latin typeface="Arial"/>
            </a:endParaRPr>
          </a:p>
        </p:txBody>
      </p:sp>
      <p:sp>
        <p:nvSpPr>
          <p:cNvPr id="18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otiating Fuel Prices in Long-term Contrac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ing Long-term Pri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ing Fuel Transport Pri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dging Strategy of Fuel Pri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priate Risk Alloc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as simple as fuel price allocation to off-taker</a:t>
            </a:r>
            <a:endParaRPr b="0" lang="en-US" sz="18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ase Study – Plant in India Developed by Tatar and Others</a:t>
            </a:r>
            <a:endParaRPr b="1" lang="en-US" sz="2000" spc="-1" strike="noStrike">
              <a:solidFill>
                <a:srgbClr val="000000"/>
              </a:solidFill>
              <a:latin typeface="Arial"/>
            </a:endParaRPr>
          </a:p>
        </p:txBody>
      </p:sp>
      <p:sp>
        <p:nvSpPr>
          <p:cNvPr id="19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imports coal from Indonesi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Developed on the basis of coal prices in Indonesia versus standard coal prices from Indian coal supplie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imposed by Indonesia on coal expor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s increase in Indonesia for demand increases and other reas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developer owns the coal mine in Indonesi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ions</a:t>
            </a:r>
            <a:endParaRPr b="0" lang="en-US" sz="18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acity Factor Risk – Renewable and Thermal</a:t>
            </a:r>
            <a:endParaRPr b="1" lang="en-US" sz="28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acity Factor</a:t>
            </a:r>
            <a:endParaRPr b="1" lang="en-US" sz="2000" spc="-1" strike="noStrike">
              <a:solidFill>
                <a:srgbClr val="000000"/>
              </a:solidFill>
              <a:latin typeface="Arial"/>
            </a:endParaRPr>
          </a:p>
        </p:txBody>
      </p:sp>
      <p:sp>
        <p:nvSpPr>
          <p:cNvPr id="19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 Capacity Factor versus Load Fact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Generation over Time Period Divided by Maximum Potential Gener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use for Capacity Factor Vari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Loa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Renewable Resour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Scheduled Outage of Other Un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Random Outag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Fuel Co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a:t>
            </a:r>
            <a:endParaRPr b="0" lang="en-US" sz="18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Variation in Hydro Capacity Factor – Applies to Wind, Solar and Tidal</a:t>
            </a:r>
            <a:endParaRPr b="1" lang="en-US" sz="2000" spc="-1" strike="noStrike">
              <a:solidFill>
                <a:srgbClr val="000000"/>
              </a:solidFill>
              <a:latin typeface="Arial"/>
            </a:endParaRPr>
          </a:p>
        </p:txBody>
      </p:sp>
      <p:pic>
        <p:nvPicPr>
          <p:cNvPr id="195" name="Picture 2" descr=""/>
          <p:cNvPicPr/>
          <p:nvPr/>
        </p:nvPicPr>
        <p:blipFill>
          <a:blip r:embed="rId1"/>
          <a:stretch/>
        </p:blipFill>
        <p:spPr>
          <a:xfrm>
            <a:off x="1427040" y="1523880"/>
            <a:ext cx="6289920" cy="4572000"/>
          </a:xfrm>
          <a:prstGeom prst="rect">
            <a:avLst/>
          </a:prstGeom>
          <a:ln w="0">
            <a:noFill/>
          </a:ln>
        </p:spPr>
      </p:pic>
      <p:sp>
        <p:nvSpPr>
          <p:cNvPr id="196" name="TextBox 3"/>
          <p:cNvSpPr/>
          <p:nvPr/>
        </p:nvSpPr>
        <p:spPr>
          <a:xfrm>
            <a:off x="7162920" y="1295280"/>
            <a:ext cx="182880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ata on DVD and downloading directly to excel using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BOOKS.OPEN</a:t>
            </a:r>
            <a:endParaRPr b="0" lang="en-US" sz="12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eduling and Dispatch of IPPs</a:t>
            </a:r>
            <a:endParaRPr b="1" lang="en-US" sz="2000" spc="-1" strike="noStrike">
              <a:solidFill>
                <a:srgbClr val="000000"/>
              </a:solidFill>
              <a:latin typeface="Arial"/>
            </a:endParaRPr>
          </a:p>
        </p:txBody>
      </p:sp>
      <p:sp>
        <p:nvSpPr>
          <p:cNvPr id="19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Problem of Scheduling and Dispatch</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Minimums, Start-up Costs, Ramp-up Rates and Heat Rate Curves, units must be scheduled a day in adv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 agreements should specify how units a scheduled a day ahead</a:t>
            </a:r>
            <a:endParaRPr b="0" lang="en-US" sz="18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ability in Hydro and Thermal Generation – Georgia Example</a:t>
            </a:r>
            <a:endParaRPr b="1" lang="en-US" sz="2000" spc="-1" strike="noStrike">
              <a:solidFill>
                <a:srgbClr val="000000"/>
              </a:solidFill>
              <a:latin typeface="Arial"/>
            </a:endParaRPr>
          </a:p>
        </p:txBody>
      </p:sp>
      <p:pic>
        <p:nvPicPr>
          <p:cNvPr id="200" name="Picture 1" descr=""/>
          <p:cNvPicPr/>
          <p:nvPr/>
        </p:nvPicPr>
        <p:blipFill>
          <a:blip r:embed="rId1"/>
          <a:stretch/>
        </p:blipFill>
        <p:spPr>
          <a:xfrm>
            <a:off x="1434960" y="1523880"/>
            <a:ext cx="6274080" cy="4572000"/>
          </a:xfrm>
          <a:prstGeom prst="rect">
            <a:avLst/>
          </a:prstGeom>
          <a:ln w="0">
            <a:noFill/>
          </a:ln>
        </p:spPr>
      </p:pic>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vailability Risk</a:t>
            </a:r>
            <a:endParaRPr b="1" lang="en-US" sz="28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uses of Variation in Availability</a:t>
            </a:r>
            <a:endParaRPr b="1" lang="en-US" sz="2000" spc="-1" strike="noStrike">
              <a:solidFill>
                <a:srgbClr val="000000"/>
              </a:solidFill>
              <a:latin typeface="Arial"/>
            </a:endParaRPr>
          </a:p>
        </p:txBody>
      </p:sp>
      <p:sp>
        <p:nvSpPr>
          <p:cNvPr id="20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dom or Forced Outag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ed Maintenance Outag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mit schedule for approval from off-tak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ion with other pla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ulation of optimal maintenance perio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ments for maintenance outag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alties can be imposed for maintenance during peak period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 with Preventative Mainten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r Operations</a:t>
            </a:r>
            <a:endParaRPr b="0" lang="en-US" sz="18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 of Forced Outage</a:t>
            </a:r>
            <a:endParaRPr b="1" lang="en-US" sz="2000" spc="-1" strike="noStrike">
              <a:solidFill>
                <a:srgbClr val="000000"/>
              </a:solidFill>
              <a:latin typeface="Arial"/>
            </a:endParaRPr>
          </a:p>
        </p:txBody>
      </p:sp>
      <p:sp>
        <p:nvSpPr>
          <p:cNvPr id="20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Forced Outage" - during periods other than Planned Outages or Maintenance Outages, the Facility is unable to engage in Dispatch Operation, or the Facility is declared by Seller to be in a Total Forced Outage for what would otherwise be a Partial Forced Outag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al Forced Outage" - during periods other than Planned Outages or Maintenance Outages, the Facility is partially able to engage in Dispatch Operation, and has not been declared by Seller to be in a Total Forced Outage</a:t>
            </a:r>
            <a:endParaRPr b="0" lang="en-US" sz="18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s</a:t>
            </a:r>
            <a:endParaRPr b="1" lang="en-US" sz="2000" spc="-1" strike="noStrike">
              <a:solidFill>
                <a:srgbClr val="000000"/>
              </a:solidFill>
              <a:latin typeface="Arial"/>
            </a:endParaRPr>
          </a:p>
        </p:txBody>
      </p:sp>
      <p:sp>
        <p:nvSpPr>
          <p:cNvPr id="10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Power Producer (IP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chant Power Plant (MP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 Power Agreement (PP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Conversion Agreement (EC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 Purpose Vehicle (SPV) or Project Compan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C Contract, O&amp;M Contract, Liquidated Damag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Charge, Capacity Price, Multipart Tariff</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atch, Capacity Factor, Load Facto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Cost Recovery Factor</a:t>
            </a:r>
            <a:endParaRPr b="0" lang="en-US" sz="18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nt Availability</a:t>
            </a:r>
            <a:endParaRPr b="1" lang="en-US" sz="2000" spc="-1" strike="noStrike">
              <a:solidFill>
                <a:srgbClr val="000000"/>
              </a:solidFill>
              <a:latin typeface="Arial"/>
            </a:endParaRPr>
          </a:p>
        </p:txBody>
      </p:sp>
      <p:sp>
        <p:nvSpPr>
          <p:cNvPr id="207" name="PlaceHolder 2"/>
          <p:cNvSpPr>
            <a:spLocks noGrp="1"/>
          </p:cNvSpPr>
          <p:nvPr>
            <p:ph/>
          </p:nvPr>
        </p:nvSpPr>
        <p:spPr>
          <a:xfrm>
            <a:off x="762120" y="5361120"/>
            <a:ext cx="7696080" cy="1039680"/>
          </a:xfrm>
          <a:prstGeom prst="rect">
            <a:avLst/>
          </a:prstGeom>
          <a:noFill/>
          <a:ln w="0">
            <a:noFill/>
          </a:ln>
        </p:spPr>
        <p:txBody>
          <a:bodyPr lIns="92160" rIns="92160" tIns="46080" bIns="46080" anchor="t">
            <a:normAutofit/>
          </a:bodyPr>
          <a:p>
            <a:pPr marL="343080" indent="-34308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Availability has dramatically improved from about 60% in 1993-1994 to 75-80%</a:t>
            </a:r>
            <a:endParaRPr b="0" lang="en-US" sz="1800" spc="-1" strike="noStrike">
              <a:solidFill>
                <a:srgbClr val="000000"/>
              </a:solidFill>
              <a:latin typeface="Arial"/>
            </a:endParaRPr>
          </a:p>
        </p:txBody>
      </p:sp>
      <p:pic>
        <p:nvPicPr>
          <p:cNvPr id="208" name="Picture 4" descr=""/>
          <p:cNvPicPr/>
          <p:nvPr/>
        </p:nvPicPr>
        <p:blipFill>
          <a:blip r:embed="rId1"/>
          <a:stretch/>
        </p:blipFill>
        <p:spPr>
          <a:xfrm>
            <a:off x="1973160" y="1295280"/>
            <a:ext cx="5264280" cy="3848400"/>
          </a:xfrm>
          <a:prstGeom prst="rect">
            <a:avLst/>
          </a:prstGeom>
          <a:ln w="0">
            <a:noFill/>
          </a:ln>
        </p:spPr>
      </p:pic>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 Nuclear Capacity Factor</a:t>
            </a:r>
            <a:endParaRPr b="1" lang="en-US" sz="2000" spc="-1" strike="noStrike">
              <a:solidFill>
                <a:srgbClr val="000000"/>
              </a:solidFill>
              <a:latin typeface="Arial"/>
            </a:endParaRPr>
          </a:p>
        </p:txBody>
      </p:sp>
      <p:pic>
        <p:nvPicPr>
          <p:cNvPr id="210" name="Picture 2" descr=""/>
          <p:cNvPicPr/>
          <p:nvPr/>
        </p:nvPicPr>
        <p:blipFill>
          <a:blip r:embed="rId1"/>
          <a:stretch/>
        </p:blipFill>
        <p:spPr>
          <a:xfrm>
            <a:off x="1427040" y="1523880"/>
            <a:ext cx="6289920" cy="4572000"/>
          </a:xfrm>
          <a:prstGeom prst="rect">
            <a:avLst/>
          </a:prstGeom>
          <a:ln w="0">
            <a:noFill/>
          </a:ln>
        </p:spPr>
      </p:pic>
      <p:sp>
        <p:nvSpPr>
          <p:cNvPr id="211" name="TextBox 1"/>
          <p:cNvSpPr/>
          <p:nvPr/>
        </p:nvSpPr>
        <p:spPr>
          <a:xfrm>
            <a:off x="6781680" y="914400"/>
            <a:ext cx="1905120" cy="45900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Data on Disk and Upload Data</a:t>
            </a:r>
            <a:endParaRPr b="0" lang="en-US" sz="12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s in Capacity Factor</a:t>
            </a:r>
            <a:endParaRPr b="1" lang="en-US" sz="2000" spc="-1" strike="noStrike">
              <a:solidFill>
                <a:srgbClr val="000000"/>
              </a:solidFill>
              <a:latin typeface="Arial"/>
            </a:endParaRPr>
          </a:p>
        </p:txBody>
      </p:sp>
      <p:pic>
        <p:nvPicPr>
          <p:cNvPr id="213" name="Picture 2" descr=""/>
          <p:cNvPicPr/>
          <p:nvPr/>
        </p:nvPicPr>
        <p:blipFill>
          <a:blip r:embed="rId1"/>
          <a:stretch/>
        </p:blipFill>
        <p:spPr>
          <a:xfrm>
            <a:off x="1066680" y="1262160"/>
            <a:ext cx="6650280" cy="4833720"/>
          </a:xfrm>
          <a:prstGeom prst="rect">
            <a:avLst/>
          </a:prstGeom>
          <a:ln w="0">
            <a:noFill/>
          </a:ln>
        </p:spPr>
      </p:pic>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s in Availability in Nigeria</a:t>
            </a:r>
            <a:endParaRPr b="1" lang="en-US" sz="2000" spc="-1" strike="noStrike">
              <a:solidFill>
                <a:srgbClr val="000000"/>
              </a:solidFill>
              <a:latin typeface="Arial"/>
            </a:endParaRPr>
          </a:p>
        </p:txBody>
      </p:sp>
      <p:pic>
        <p:nvPicPr>
          <p:cNvPr id="215" name="Picture 2" descr=""/>
          <p:cNvPicPr/>
          <p:nvPr/>
        </p:nvPicPr>
        <p:blipFill>
          <a:blip r:embed="rId1"/>
          <a:stretch/>
        </p:blipFill>
        <p:spPr>
          <a:xfrm>
            <a:off x="1427040" y="1523880"/>
            <a:ext cx="6289920" cy="4572000"/>
          </a:xfrm>
          <a:prstGeom prst="rect">
            <a:avLst/>
          </a:prstGeom>
          <a:ln w="0">
            <a:noFill/>
          </a:ln>
        </p:spPr>
      </p:pic>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pacity  Charge Mechanics in PPA</a:t>
            </a:r>
            <a:endParaRPr b="1" lang="en-US" sz="2000" spc="-1" strike="noStrike">
              <a:solidFill>
                <a:srgbClr val="000000"/>
              </a:solidFill>
              <a:latin typeface="Arial"/>
            </a:endParaRPr>
          </a:p>
        </p:txBody>
      </p:sp>
      <p:sp>
        <p:nvSpPr>
          <p:cNvPr id="21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yment without Penal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CR</a:t>
            </a:r>
            <a:r>
              <a:rPr b="0" lang="en-GB" sz="1800" spc="-1" strike="noStrike" baseline="-25000">
                <a:solidFill>
                  <a:srgbClr val="000000"/>
                </a:solidFill>
                <a:latin typeface="Arial"/>
              </a:rPr>
              <a:t> </a:t>
            </a:r>
            <a:r>
              <a:rPr b="0" lang="en-GB" sz="1800" spc="-1" strike="noStrike">
                <a:solidFill>
                  <a:srgbClr val="000000"/>
                </a:solidFill>
                <a:latin typeface="Arial"/>
              </a:rPr>
              <a:t>=</a:t>
            </a:r>
            <a:r>
              <a:rPr b="0" lang="en-GB" sz="1800" spc="-1" strike="noStrike" baseline="-25000">
                <a:solidFill>
                  <a:srgbClr val="000000"/>
                </a:solidFill>
                <a:latin typeface="Arial"/>
              </a:rPr>
              <a:t> </a:t>
            </a:r>
            <a:r>
              <a:rPr b="0" lang="en-GB" sz="1800" spc="-1" strike="noStrike">
                <a:solidFill>
                  <a:srgbClr val="000000"/>
                </a:solidFill>
                <a:latin typeface="Arial"/>
              </a:rPr>
              <a:t>Capital Cost Recovery Charge Rate per kW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C  =  Net Dependable Capacity (in MW) for Billing Period 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payment = CCR x DC x Hours in Perio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Penalty for Base Load Pla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ed Energy Loss – (Projected  Energy Loss – Actual Energy Loss) x Coefficient x Payment Deduction Factor</a:t>
            </a:r>
            <a:endParaRPr b="0" lang="en-US" sz="18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Liquidated Damanges for Plant Capacity in PPA Contract</a:t>
            </a:r>
            <a:endParaRPr b="1" lang="en-US" sz="2000" spc="-1" strike="noStrike">
              <a:solidFill>
                <a:srgbClr val="000000"/>
              </a:solidFill>
              <a:latin typeface="Arial"/>
            </a:endParaRPr>
          </a:p>
        </p:txBody>
      </p:sp>
      <p:sp>
        <p:nvSpPr>
          <p:cNvPr id="21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ollowing the undertaking of the Performance Tests prior to the Commercial Operation Date, the Net Dependable Capacity at the Point of Delivery is less than the Rated Capacity, Seller shall pay to CEB an amount of liquidated damages (“Performance Liquidated Damages”) of US$[] per kW (or part thereof) multiplied by the difference (expressed in kW) between the Rated Capacity and the Net Dependable Capacity of the Facility as proven by the Performance Tes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cs of Liquidated Damag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er pays less over the course of the contrac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er must secure additional capacity to meet reserve requirement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ailability Test Example for Non Baseload Plant</a:t>
            </a:r>
            <a:endParaRPr b="1" lang="en-US" sz="2000" spc="-1" strike="noStrike">
              <a:solidFill>
                <a:srgbClr val="000000"/>
              </a:solidFill>
              <a:latin typeface="Arial"/>
            </a:endParaRPr>
          </a:p>
        </p:txBody>
      </p:sp>
      <p:sp>
        <p:nvSpPr>
          <p:cNvPr id="22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ated Capacity for purposes of calculating the Capacity Payment will be established by testing and adjustment as follows: During the period beginning June 1 and ending June 30 in each year, the SPV will conduct a four hour performance test of the Facility during operations using installed instrumentation, calibrated by the SPV to determine the maximum MW output of the Facility. </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ddition, the off-taker and the SPV may request up to two additional tests per year (at any time) utilizing the same four hour test procedures. After each test, the SPV will use performance curves certified by the original equipment manufacturer/architect engineer/vendor to adjust the test results to ISO Conditions. </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SO Condition-adjusted test results will be the “Rated Capacity,” effective on the first day of the month following the month in which the off-taker receives written notice of the test results or as of the Commercial Operation Date, as the case may be. </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ff-taker is entitled to witness any test of the Facility. The off-taker may request third party calibration of instrumentation used in any test, and in the event that a deviation equal to or more than 2% is found, the SPV shall bear the cost of such calibration, and if the instrumentation is within 2% deviation then the off-taker shall bear such cost. The results of the tests shall be used to adjust the Rated Capacity for the purpose of making capacity payments hereunder. </a:t>
            </a:r>
            <a:endParaRPr b="0" lang="en-US" sz="14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ailability Test Continued</a:t>
            </a:r>
            <a:endParaRPr b="1" lang="en-US" sz="2000" spc="-1" strike="noStrike">
              <a:solidFill>
                <a:srgbClr val="000000"/>
              </a:solidFill>
              <a:latin typeface="Arial"/>
            </a:endParaRPr>
          </a:p>
        </p:txBody>
      </p:sp>
      <p:sp>
        <p:nvSpPr>
          <p:cNvPr id="22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V and the Off-taker agree to the schedule and the procedures for the availability te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V pays for the availability te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capacity test shortly after commercial oper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Te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t Rate Te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s of Availability Risk and Te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y should be brought to full loa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erature, Weather Conditions and Fuel Quality Data</a:t>
            </a:r>
            <a:endParaRPr b="0" lang="en-US" sz="18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Outages</a:t>
            </a:r>
            <a:endParaRPr b="1" lang="en-US" sz="2000" spc="-1" strike="noStrike">
              <a:solidFill>
                <a:srgbClr val="000000"/>
              </a:solidFill>
              <a:latin typeface="Arial"/>
            </a:endParaRPr>
          </a:p>
        </p:txBody>
      </p:sp>
      <p:sp>
        <p:nvSpPr>
          <p:cNvPr id="22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y: Marginal Value of Energy and Outage During Hour of Outag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to Problem of Valuing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approaches:</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aker Method</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Lost Supply</a:t>
            </a:r>
            <a:endParaRPr b="0" lang="en-US" sz="16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Supply Curv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Season of Yea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Hydro Availabil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amount of Surplus Capacity</a:t>
            </a:r>
            <a:endParaRPr b="0" lang="en-US" sz="18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acity Factor Risk and Heat Rates</a:t>
            </a:r>
            <a:endParaRPr b="1" lang="en-US" sz="28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spectives in IPP Analysis</a:t>
            </a:r>
            <a:endParaRPr b="1" lang="en-US" sz="2000" spc="-1" strike="noStrike">
              <a:solidFill>
                <a:srgbClr val="000000"/>
              </a:solidFill>
              <a:latin typeface="Arial"/>
            </a:endParaRPr>
          </a:p>
        </p:txBody>
      </p:sp>
      <p:sp>
        <p:nvSpPr>
          <p:cNvPr id="103" name=""/>
          <p:cNvSpPr txBox="1"/>
          <p:nvPr/>
        </p:nvSpPr>
        <p:spPr>
          <a:xfrm>
            <a:off x="762120" y="121932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f-taker</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ion of PPA Bid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derstanding Risk Allocation</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er</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s Analysis and Mitigation</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Capacity and Debt Structure</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enario Analysi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er and Sponsor</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ment of PPA Bids with Alternative Financial Structure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and upside</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ulator</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A Price versus Competitive Price</a:t>
            </a:r>
            <a:endParaRPr b="0" lang="en-US" sz="14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t Capacity Factor Incentives for Different Types of Plants</a:t>
            </a:r>
            <a:endParaRPr b="1" lang="en-US" sz="2000" spc="-1" strike="noStrike">
              <a:solidFill>
                <a:srgbClr val="000000"/>
              </a:solidFill>
              <a:latin typeface="Arial"/>
            </a:endParaRPr>
          </a:p>
        </p:txBody>
      </p:sp>
      <p:sp>
        <p:nvSpPr>
          <p:cNvPr id="22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atchable Pla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Factor out of control of the SPV</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be available when called for dispatch</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ewable Energ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Dispatchabl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 to Locate Plants near best Resour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in SPV Risk with and with Capacity Factor Risk</a:t>
            </a:r>
            <a:endParaRPr b="0" lang="en-US" sz="18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t Rate Terms</a:t>
            </a:r>
            <a:endParaRPr b="1" lang="en-US" sz="2000" spc="-1" strike="noStrike">
              <a:solidFill>
                <a:srgbClr val="000000"/>
              </a:solidFill>
              <a:latin typeface="Arial"/>
            </a:endParaRPr>
          </a:p>
        </p:txBody>
      </p:sp>
      <p:sp>
        <p:nvSpPr>
          <p:cNvPr id="23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t Rat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lling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ed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al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aranteed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Heating Value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Heating Value Heat Rate</a:t>
            </a:r>
            <a:endParaRPr b="0" lang="en-US" sz="18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el Quality and Heat Rate</a:t>
            </a:r>
            <a:endParaRPr b="1" lang="en-US" sz="2000" spc="-1" strike="noStrike">
              <a:solidFill>
                <a:srgbClr val="000000"/>
              </a:solidFill>
              <a:latin typeface="Arial"/>
            </a:endParaRPr>
          </a:p>
        </p:txBody>
      </p:sp>
      <p:sp>
        <p:nvSpPr>
          <p:cNvPr id="23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in fuel quality can affect the heat rat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can have different heating valu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quality should be defined in the fuel supply agree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Heat Rate Curves</a:t>
            </a:r>
            <a:endParaRPr b="1" lang="en-US" sz="2000" spc="-1" strike="noStrike">
              <a:solidFill>
                <a:srgbClr val="000000"/>
              </a:solidFill>
              <a:latin typeface="Arial"/>
            </a:endParaRPr>
          </a:p>
        </p:txBody>
      </p:sp>
      <p:sp>
        <p:nvSpPr>
          <p:cNvPr id="23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lant is dispatched at different levels, the target heat rate should change</a:t>
            </a:r>
            <a:endParaRPr b="0" lang="en-US" sz="1800" spc="-1" strike="noStrike">
              <a:solidFill>
                <a:srgbClr val="000000"/>
              </a:solidFill>
              <a:latin typeface="Arial"/>
            </a:endParaRPr>
          </a:p>
        </p:txBody>
      </p:sp>
      <p:pic>
        <p:nvPicPr>
          <p:cNvPr id="235" name="Picture 2" descr=""/>
          <p:cNvPicPr/>
          <p:nvPr/>
        </p:nvPicPr>
        <p:blipFill>
          <a:blip r:embed="rId1"/>
          <a:stretch/>
        </p:blipFill>
        <p:spPr>
          <a:xfrm>
            <a:off x="1676520" y="2286000"/>
            <a:ext cx="5521320" cy="3352680"/>
          </a:xfrm>
          <a:prstGeom prst="rect">
            <a:avLst/>
          </a:prstGeom>
          <a:ln w="0">
            <a:noFill/>
          </a:ln>
        </p:spPr>
      </p:pic>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nsation from Marginal and Average Heat Rate</a:t>
            </a:r>
            <a:endParaRPr b="1" lang="en-US" sz="2000" spc="-1" strike="noStrike">
              <a:solidFill>
                <a:srgbClr val="000000"/>
              </a:solidFill>
              <a:latin typeface="Arial"/>
            </a:endParaRPr>
          </a:p>
        </p:txBody>
      </p:sp>
      <p:sp>
        <p:nvSpPr>
          <p:cNvPr id="23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t dispatch should reflect the marginal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s the additional fuel used when additional energy is produc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s should be dispatched on a portfolio basis after they are committ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with lowest marginal heat rate should be dispatched fir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nsation should be on the basis of average heat rat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verage heat rate measures the total fuel used relative to the total energy produc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ensation is based on the marginal heat rate, added revenues should be collected through the capacity payment</a:t>
            </a:r>
            <a:endParaRPr b="0" lang="en-US" sz="18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ation of Incremental and Average Heat Rate</a:t>
            </a:r>
            <a:endParaRPr b="1" lang="en-US" sz="2000" spc="-1" strike="noStrike">
              <a:solidFill>
                <a:srgbClr val="000000"/>
              </a:solidFill>
              <a:latin typeface="Arial"/>
            </a:endParaRPr>
          </a:p>
        </p:txBody>
      </p:sp>
      <p:pic>
        <p:nvPicPr>
          <p:cNvPr id="239" name="Picture 2" descr=""/>
          <p:cNvPicPr/>
          <p:nvPr/>
        </p:nvPicPr>
        <p:blipFill>
          <a:blip r:embed="rId1"/>
          <a:stretch/>
        </p:blipFill>
        <p:spPr>
          <a:xfrm>
            <a:off x="1270080" y="1523880"/>
            <a:ext cx="6603840" cy="4572000"/>
          </a:xfrm>
          <a:prstGeom prst="rect">
            <a:avLst/>
          </a:prstGeom>
          <a:ln w="0">
            <a:noFill/>
          </a:ln>
        </p:spPr>
      </p:pic>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Heat Rate Degradation</a:t>
            </a:r>
            <a:endParaRPr b="1" lang="en-US" sz="2000" spc="-1" strike="noStrike">
              <a:solidFill>
                <a:srgbClr val="000000"/>
              </a:solidFill>
              <a:latin typeface="Arial"/>
            </a:endParaRPr>
          </a:p>
        </p:txBody>
      </p:sp>
      <p:pic>
        <p:nvPicPr>
          <p:cNvPr id="241" name="Picture 2" descr=""/>
          <p:cNvPicPr/>
          <p:nvPr/>
        </p:nvPicPr>
        <p:blipFill>
          <a:blip r:embed="rId1"/>
          <a:stretch/>
        </p:blipFill>
        <p:spPr>
          <a:xfrm>
            <a:off x="4648320" y="2590920"/>
            <a:ext cx="4227480" cy="3073320"/>
          </a:xfrm>
          <a:prstGeom prst="rect">
            <a:avLst/>
          </a:prstGeom>
          <a:ln w="0">
            <a:noFill/>
          </a:ln>
        </p:spPr>
      </p:pic>
      <p:pic>
        <p:nvPicPr>
          <p:cNvPr id="242" name="Picture 4" descr=""/>
          <p:cNvPicPr/>
          <p:nvPr/>
        </p:nvPicPr>
        <p:blipFill>
          <a:blip r:embed="rId2"/>
          <a:stretch/>
        </p:blipFill>
        <p:spPr>
          <a:xfrm>
            <a:off x="228600" y="2514600"/>
            <a:ext cx="4343400" cy="3157560"/>
          </a:xfrm>
          <a:prstGeom prst="rect">
            <a:avLst/>
          </a:prstGeom>
          <a:ln w="0">
            <a:noFill/>
          </a:ln>
        </p:spPr>
      </p:pic>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ergy Charges</a:t>
            </a:r>
            <a:endParaRPr b="1" lang="en-US" sz="2000" spc="-1" strike="noStrike">
              <a:solidFill>
                <a:srgbClr val="000000"/>
              </a:solidFill>
              <a:latin typeface="Arial"/>
            </a:endParaRPr>
          </a:p>
        </p:txBody>
      </p:sp>
      <p:sp>
        <p:nvSpPr>
          <p:cNvPr id="24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ectric Energy Charge. For each hour during that Month, an amount equal to the product of the Electric Energy (expressed in MWh) sold to Buyer under this Agreement during such hour, multiplied by $/MWh applicable to the Dispatch level of a Committed Unit set forth below:</a:t>
            </a:r>
            <a:endParaRPr b="0" lang="en-US" sz="18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Wh                     Dispatch Level</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0.00/MWh                     100%</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1.00/MWh                      90%</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2.00/MWh                      80%</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3.50/MWh                      70%</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5.00/MWh                      60%</a:t>
            </a:r>
            <a:endParaRPr b="0" lang="en-US" sz="12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Dispatch levels between the above percentages, the prices will be         prorated to the proportionate level between the points in the table.  The Dispatch level will be determined by the Dispatch level requested by Buyer for such hou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 Heat Rate Mechanics</a:t>
            </a:r>
            <a:endParaRPr b="1" lang="en-US" sz="2000" spc="-1" strike="noStrike">
              <a:solidFill>
                <a:srgbClr val="000000"/>
              </a:solidFill>
              <a:latin typeface="Arial"/>
            </a:endParaRPr>
          </a:p>
        </p:txBody>
      </p:sp>
      <p:sp>
        <p:nvSpPr>
          <p:cNvPr id="24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ed Fuel Demand in MMBTU  =  </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 over hours (Energy in MWH x Energy x Contract Heat Rate (BTU/kWh) *  Correction Factor ) / 1,000,000</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ction Factor of Specific Net Heat Rate, applicable for each respective hour depends on operating conditions, and level of the plant that is dispatched</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ction factor depends on:</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mperature and other weather conditions</a:t>
            </a:r>
            <a:endParaRPr b="0" lang="en-US" sz="14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s a table with different correction factors</a:t>
            </a:r>
            <a:endParaRPr b="0" lang="en-US" sz="12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acity dispatched</a:t>
            </a:r>
            <a:endParaRPr b="0" lang="en-US" sz="14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s a heat rate table or heat rate curve</a:t>
            </a:r>
            <a:endParaRPr b="0" lang="en-US" sz="12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el quality</a:t>
            </a:r>
            <a:endParaRPr b="0" lang="en-US" sz="14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s adjustment factors</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 Heat Rate Formula</a:t>
            </a:r>
            <a:endParaRPr b="1" lang="en-US" sz="2000" spc="-1" strike="noStrike">
              <a:solidFill>
                <a:srgbClr val="000000"/>
              </a:solidFill>
              <a:latin typeface="Arial"/>
            </a:endParaRPr>
          </a:p>
        </p:txBody>
      </p:sp>
      <p:sp>
        <p:nvSpPr>
          <p:cNvPr id="248" name=""/>
          <p:cNvSpPr txBox="1"/>
          <p:nvPr/>
        </p:nvSpPr>
        <p:spPr>
          <a:xfrm>
            <a:off x="761760" y="1523880"/>
            <a:ext cx="3733560" cy="4572000"/>
          </a:xfrm>
          <a:prstGeom prst="rect">
            <a:avLst/>
          </a:prstGeom>
          <a:noFill/>
          <a:ln w="0">
            <a:noFill/>
          </a:ln>
        </p:spPr>
        <p:txBody>
          <a:bodyPr lIns="92160" rIns="92160" tIns="46080" bIns="46080" anchor="t">
            <a:normAutofit/>
          </a:bodyPr>
          <a:p>
            <a:pPr marL="231840" indent="-173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s</a:t>
            </a:r>
            <a:endParaRPr b="0" lang="en-US" sz="20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compensation for different levels of dispatch which would be distorted from a constant heat rat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a constant heat rate there is an incentive to dispatch too much when the marginal heat rate is low and too little when the marginal heat rate is high.</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s the  necessity of fuel price risk where fuel is supplied by government</a:t>
            </a:r>
            <a:endParaRPr b="0" lang="en-US" sz="1600" spc="-1" strike="noStrike">
              <a:solidFill>
                <a:srgbClr val="000000"/>
              </a:solidFill>
              <a:latin typeface="Arial"/>
            </a:endParaRPr>
          </a:p>
        </p:txBody>
      </p:sp>
      <p:sp>
        <p:nvSpPr>
          <p:cNvPr id="249" name=""/>
          <p:cNvSpPr txBox="1"/>
          <p:nvPr/>
        </p:nvSpPr>
        <p:spPr>
          <a:xfrm>
            <a:off x="4647960" y="1523880"/>
            <a:ext cx="3733560" cy="4572000"/>
          </a:xfrm>
          <a:prstGeom prst="rect">
            <a:avLst/>
          </a:prstGeom>
          <a:noFill/>
          <a:ln w="0">
            <a:noFill/>
          </a:ln>
        </p:spPr>
        <p:txBody>
          <a:bodyPr lIns="92160" rIns="92160" tIns="46080" bIns="46080" anchor="t">
            <a:normAutofit/>
          </a:bodyPr>
          <a:p>
            <a:pPr marL="231840" indent="-173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s</a:t>
            </a:r>
            <a:endParaRPr b="0" lang="en-US" sz="20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s potential for economic inefficiency if the actual heat rate curve differs from the marginal heat rate curv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s potential for economic inefficiency if the actual level of the heat rate is different from the target level.</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s fuel price to determine penalties when the  actual heat rate does not equal the target heat rat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x formula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5335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y and Definition of Independent Power Production</a:t>
            </a:r>
            <a:endParaRPr b="1" lang="en-US" sz="2000" spc="-1" strike="noStrike">
              <a:solidFill>
                <a:srgbClr val="000000"/>
              </a:solidFill>
              <a:latin typeface="Arial"/>
            </a:endParaRPr>
          </a:p>
        </p:txBody>
      </p:sp>
      <p:sp>
        <p:nvSpPr>
          <p:cNvPr id="105" name=""/>
          <p:cNvSpPr txBox="1"/>
          <p:nvPr/>
        </p:nvSpPr>
        <p:spPr>
          <a:xfrm>
            <a:off x="533520" y="137160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PA Law (1978)</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ed Cos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dding</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ile 1982</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Prices from Marginal Cos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ia 1990’s until East Asian Crisi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of IPPs with PPA contracts to Finance Power Expansion</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ilippine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onesia</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laysia</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m period for developing countries 1992-1997</a:t>
            </a:r>
            <a:endParaRPr b="0" lang="en-US" sz="16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D on Heat Rate</a:t>
            </a:r>
            <a:endParaRPr b="1" lang="en-US" sz="2000" spc="-1" strike="noStrike">
              <a:solidFill>
                <a:srgbClr val="000000"/>
              </a:solidFill>
              <a:latin typeface="Arial"/>
            </a:endParaRPr>
          </a:p>
        </p:txBody>
      </p:sp>
      <p:sp>
        <p:nvSpPr>
          <p:cNvPr id="25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ing any liquidated damages related to Commercial Net Heat Rate, Commercial Net Heat Rate shall be averaged (with separate averages for natural gas and fuel oil) for the six Units (based upon the final Performance Tests for each Unit) as adjusted for transformer losses, auxiliary loads and balance of plant restrictions determined during the tests for Plant Commercial Operation, and liquidated damages, if any, shall be computed based upon the per Unit average Commercial Net Heat Rate for natural gas and fuel oil. </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or to the computation of liquidated damages for net heat rate of the entire Plant, Contractor shall, at such times as are provided in this Agreement, pay to Owner liquidated damages of</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IVE THOUSAND EIGHT HUNDRED SIXTY DOLLARS ($5,860) per BTU/KW-HR for each BTU/KW-HR that the net heat rate of a Unit exceeds Ten Thousand Six Hundred Eighty Three  (10,683) BTU/KW-HR (HHV) when operated on natural gas,</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us NINE HUNDRED FIFTY DOLLARS ($950) per BTU/KW-HR  for each BTU/KW-HR that the net heat rate of a Unit exceeds Ten Thousand Eight Hundred  Twenty One (10,821) BTU/KW-HR (HHV) when operated on fuel oil, as measured in the most recent Performance Tests for such Unit. </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or shall have the right to retest.  Contractor's total aggregate liability for liquidated damages shall not exceed twenty two and one half percent (22 1/2%) of the Guaranteed Lump Sum Price.</a:t>
            </a:r>
            <a:endParaRPr b="0" lang="en-US" sz="14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efficiencies from Using Target Data Rather than Actual Data</a:t>
            </a:r>
            <a:endParaRPr b="1" lang="en-US" sz="2000" spc="-1" strike="noStrike">
              <a:solidFill>
                <a:srgbClr val="000000"/>
              </a:solidFill>
              <a:latin typeface="Arial"/>
            </a:endParaRPr>
          </a:p>
        </p:txBody>
      </p:sp>
      <p:sp>
        <p:nvSpPr>
          <p:cNvPr id="25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atch from Target Co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ctual Cost is Above Target Co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will be dispatched too muc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P will lose money on dispatch</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arget Cost is Below Actual Co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will not dispatch enoug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could be reduc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Problem Occurs from Heat Rate</a:t>
            </a:r>
            <a:endParaRPr b="0" lang="en-US" sz="18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Cost and Operations and Maintenance Cost Risk</a:t>
            </a:r>
            <a:endParaRPr b="1" lang="en-US" sz="28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Risk Allocation </a:t>
            </a:r>
            <a:endParaRPr b="1" lang="en-US" sz="2000" spc="-1" strike="noStrike">
              <a:solidFill>
                <a:srgbClr val="000000"/>
              </a:solidFill>
              <a:latin typeface="Arial"/>
            </a:endParaRPr>
          </a:p>
        </p:txBody>
      </p:sp>
      <p:sp>
        <p:nvSpPr>
          <p:cNvPr id="25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pply an LSTK contract, cost-over run, delay risk and performance risk are transferred from the SPV (project company) to the EPC contract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PC contractor should be compensated for accepting these risk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mium for an LSTK contract depends in theory on the potential for cost over-runs, delays and problems with performanc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n NGCC, the rule of thumb is about 15%-20%.</a:t>
            </a:r>
            <a:endParaRPr b="0" lang="en-US" sz="18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and Operation Cost Breakdown for Alternative Plants</a:t>
            </a:r>
            <a:endParaRPr b="1" lang="en-US" sz="2000" spc="-1" strike="noStrike">
              <a:solidFill>
                <a:srgbClr val="000000"/>
              </a:solidFill>
              <a:latin typeface="Arial"/>
            </a:endParaRPr>
          </a:p>
        </p:txBody>
      </p:sp>
      <p:sp>
        <p:nvSpPr>
          <p:cNvPr id="25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cost dat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20% premium for LSTK contrac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levelized cost of pla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cent of total cost related to capital co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sm Bias in cost estim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etical Issue – should construction cost risk be compensated in the equity IRR if all bidders use LSTK contracts and cost is already increased for construction.</a:t>
            </a:r>
            <a:endParaRPr b="0" lang="en-US" sz="18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Trends in Natural Gas Plants</a:t>
            </a:r>
            <a:endParaRPr b="1" lang="en-US" sz="2000" spc="-1" strike="noStrike">
              <a:solidFill>
                <a:srgbClr val="000000"/>
              </a:solidFill>
              <a:latin typeface="Arial"/>
            </a:endParaRPr>
          </a:p>
        </p:txBody>
      </p:sp>
      <p:pic>
        <p:nvPicPr>
          <p:cNvPr id="260" name="Picture 2" descr=""/>
          <p:cNvPicPr/>
          <p:nvPr/>
        </p:nvPicPr>
        <p:blipFill>
          <a:blip r:embed="rId1"/>
          <a:stretch/>
        </p:blipFill>
        <p:spPr>
          <a:xfrm>
            <a:off x="1316160" y="1523880"/>
            <a:ext cx="6511680" cy="4572000"/>
          </a:xfrm>
          <a:prstGeom prst="rect">
            <a:avLst/>
          </a:prstGeom>
          <a:ln w="0">
            <a:noFill/>
          </a:ln>
        </p:spPr>
      </p:pic>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tive Plant Costs for Natural Gas </a:t>
            </a:r>
            <a:endParaRPr b="1" lang="en-US" sz="2000" spc="-1" strike="noStrike">
              <a:solidFill>
                <a:srgbClr val="000000"/>
              </a:solidFill>
              <a:latin typeface="Arial"/>
            </a:endParaRPr>
          </a:p>
        </p:txBody>
      </p:sp>
      <p:pic>
        <p:nvPicPr>
          <p:cNvPr id="262" name="Picture 2" descr=""/>
          <p:cNvPicPr/>
          <p:nvPr/>
        </p:nvPicPr>
        <p:blipFill>
          <a:blip r:embed="rId1"/>
          <a:stretch/>
        </p:blipFill>
        <p:spPr>
          <a:xfrm>
            <a:off x="3149640" y="1295280"/>
            <a:ext cx="2921040" cy="5105520"/>
          </a:xfrm>
          <a:prstGeom prst="rect">
            <a:avLst/>
          </a:prstGeom>
          <a:ln w="0">
            <a:noFill/>
          </a:ln>
        </p:spPr>
      </p:pic>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 Nuclear Plants</a:t>
            </a:r>
            <a:endParaRPr b="1" lang="en-US" sz="2000" spc="-1" strike="noStrike">
              <a:solidFill>
                <a:srgbClr val="000000"/>
              </a:solidFill>
              <a:latin typeface="Arial"/>
            </a:endParaRPr>
          </a:p>
        </p:txBody>
      </p:sp>
      <p:sp>
        <p:nvSpPr>
          <p:cNvPr id="26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Plant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1970’s Approximately US$ 500/kW</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1980’s Approximately US$ 4,000/k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of Seabrook Pla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ruptcy of Public Service New Hampshir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calating Co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lining Plant Valu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ing Fixed O&amp;M Expens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se than Expected Capacity Factors</a:t>
            </a:r>
            <a:endParaRPr b="0" lang="en-US" sz="18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ing Risk and Delays in Construction</a:t>
            </a:r>
            <a:endParaRPr b="1" lang="en-US" sz="28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nomic Cost of Delay</a:t>
            </a:r>
            <a:endParaRPr b="1" lang="en-US" sz="2000" spc="-1" strike="noStrike">
              <a:solidFill>
                <a:srgbClr val="000000"/>
              </a:solidFill>
              <a:latin typeface="Arial"/>
            </a:endParaRPr>
          </a:p>
        </p:txBody>
      </p:sp>
      <p:sp>
        <p:nvSpPr>
          <p:cNvPr id="26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ed prices in different month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ility of prices in different seas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value of capacity in different seas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P and Technical Changes</a:t>
            </a:r>
            <a:endParaRPr b="1" lang="en-US" sz="2000" spc="-1" strike="noStrike">
              <a:solidFill>
                <a:srgbClr val="000000"/>
              </a:solidFill>
              <a:latin typeface="Arial"/>
            </a:endParaRPr>
          </a:p>
        </p:txBody>
      </p:sp>
      <p:sp>
        <p:nvSpPr>
          <p:cNvPr id="10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es of scale in generation occurred at individual plants, meaning it was more efficient to build big plants.  Somewhere around the 1970’s this changed and it was clear that small plants could be effici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lead times and high capital intensity for construction plants such as nuclear plants require stability of regulation or government ownershi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1980’s natural gas plants became much more efficient (the heat rates declined by 30%).  With relatively low oil and natural gas prices, the natural gas combined cycle plants were more efficient than other plants at a range of capacity facto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atural gas plants are less capital intensive than other plants meaning the relative deployment of capital is less.</a:t>
            </a:r>
            <a:endParaRPr b="0" lang="en-US" sz="18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quidated Damages for Delay in PPA Contract</a:t>
            </a:r>
            <a:endParaRPr b="1" lang="en-US" sz="2000" spc="-1" strike="noStrike">
              <a:solidFill>
                <a:srgbClr val="000000"/>
              </a:solidFill>
              <a:latin typeface="Arial"/>
            </a:endParaRPr>
          </a:p>
        </p:txBody>
      </p:sp>
      <p:sp>
        <p:nvSpPr>
          <p:cNvPr id="26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other than as a result of a Force Majeure Event, the SPV fails to achieve PCOD on or before the Scheduled Project Commercial Operation Date, the Project is liable to the off-taker for liquidated damages at a rate of 255 USD per MW for each day of delay based on the difference between the Contracted Capacity for the Scheduled Project Commercial Operation Date and the aggregate amount of the Contracted Capacity of the Group or Groups that have achieved their Commercial Operation Date at the Scheduled Project Commercial Operation Date, for the period from the Scheduled Project Commercial Operation Date until the earlier to occur of the Project Commercial Operation Date and the Long Stop Dat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Long Stop Date is a date that is 300 days after the Scheduled Project Commercial Operation D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ject company has the right to terminate the PPA</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cillary Services</a:t>
            </a:r>
            <a:endParaRPr b="1" lang="en-US" sz="2000" spc="-1" strike="noStrike">
              <a:solidFill>
                <a:srgbClr val="000000"/>
              </a:solidFill>
              <a:latin typeface="Arial"/>
            </a:endParaRPr>
          </a:p>
        </p:txBody>
      </p:sp>
      <p:sp>
        <p:nvSpPr>
          <p:cNvPr id="27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of Ancillary Servi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ning Reserve</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le Capacity versus Dispatched Capacity</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 Star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Reserves</a:t>
            </a:r>
            <a:endParaRPr b="0" lang="en-US" sz="18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sk for Off-takers</a:t>
            </a:r>
            <a:endParaRPr b="1" lang="en-US" sz="28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ounting for PPA Contracts and Leases</a:t>
            </a:r>
            <a:endParaRPr b="1" lang="en-US" sz="2000" spc="-1" strike="noStrike">
              <a:solidFill>
                <a:srgbClr val="000000"/>
              </a:solidFill>
              <a:latin typeface="Arial"/>
            </a:endParaRPr>
          </a:p>
        </p:txBody>
      </p:sp>
      <p:sp>
        <p:nvSpPr>
          <p:cNvPr id="27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ong-term power purchase agreement (PPA) often will be necessary to secure project finance for the plant on economic term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each PPA will be analysed according to its precise terms, those PPAs that provide for a “full payout” of the capital costs over the term of the PPA are likely to have characteristics of a finance leas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ease is a finance lease when substantially all of the risks and rewards of owning the leased asset are transferred from the lessor to the lessee. An operating lease is a lease other than a finance leas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a finance lease, the lessor recognises a finance lease receivable and the lessee recognises the leased asset and a liability for future payments. An operating lease is accounted for like an executory contract and the lessee does not recognise the asset. </a:t>
            </a:r>
            <a:endParaRPr b="0" lang="en-US" sz="18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iteria for Lease Accounting</a:t>
            </a:r>
            <a:endParaRPr b="1" lang="en-US" sz="2000" spc="-1" strike="noStrike">
              <a:solidFill>
                <a:srgbClr val="000000"/>
              </a:solidFill>
              <a:latin typeface="Arial"/>
            </a:endParaRPr>
          </a:p>
        </p:txBody>
      </p:sp>
      <p:sp>
        <p:nvSpPr>
          <p:cNvPr id="27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 IFRIC 4 a lease exists if any of the following conditions is me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urchaser has the ability or right to operate the asset or to direct how others should operate the asset, and at the same time obtains or controls more than an insignificant amount of the asset’s outpu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urchaser has the ability or right to control physical access to the asset, while obtaining or controlling more than an insignificant amount of the asset’s outpu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ossibility that another party will take more than an insignificant amount of the asset’s output during the term of the arrangement is remote, and the price paid by the purchaser for the output is neither a contractually fixed price per unit of output, nor the market price per unit of outpu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an arrangement contains a lease and a service component, IFRIC 4 requires the separation of payments between the two components on the basis of their relative fair values.</a:t>
            </a:r>
            <a:endParaRPr b="0" lang="en-US" sz="16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djustments to Off-takers</a:t>
            </a:r>
            <a:endParaRPr b="1" lang="en-US" sz="2000" spc="-1" strike="noStrike">
              <a:solidFill>
                <a:srgbClr val="000000"/>
              </a:solidFill>
              <a:latin typeface="Arial"/>
            </a:endParaRPr>
          </a:p>
        </p:txBody>
      </p:sp>
      <p:sp>
        <p:nvSpPr>
          <p:cNvPr id="27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n argue that PPAs essentially represent substitutes for direct, debt-financed, capital investments for the buyers of electricity. In a sense, an off-taker that has entered into a PPA has contracted with a supplier to make the financial investment on its behalf and a PPA capacity payment is like a lease pay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PA also shifts various risks to the supplier, such as construction risk and most of the operating risk.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result, the principal risk borne by the off-taker that relies on PPAs is the recovery of the financial obligation in rate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it is the off-taker that must of course make these payments, to the extent that regulators have structured recovery to assign the burden to ratepayers, the utilities' risk diminishes.</a:t>
            </a:r>
            <a:endParaRPr b="0" lang="en-US" sz="18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for Risk to Purchasing Entities</a:t>
            </a:r>
            <a:endParaRPr b="1" lang="en-US" sz="2000" spc="-1" strike="noStrike">
              <a:solidFill>
                <a:srgbClr val="000000"/>
              </a:solidFill>
              <a:latin typeface="Arial"/>
            </a:endParaRPr>
          </a:p>
        </p:txBody>
      </p:sp>
      <p:sp>
        <p:nvSpPr>
          <p:cNvPr id="28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amp; Poor's considers PPAs as financial obligations that electric utilities incur when they elect to purchase rather than build their own capacity, and this obligation has affected our view of utilities' creditworthines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amp; Poor's applies a "risk factor" of 0% to 100% to the net present value (NPV) of the PPA capacity payments, and capitalized this amoun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100%, all risk related to contractual obligations rests on the company with no mitigating regulatory or legislative suppor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sely, a 0% risk factor indicates that the burden of the contractual payments rests solely with ratepaye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mechanisms have largely performed as intended, and related write-offs have proven to be very low.</a:t>
            </a:r>
            <a:endParaRPr b="0" lang="en-US" sz="18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ails of Risk Adjustment</a:t>
            </a:r>
            <a:endParaRPr b="1" lang="en-US" sz="2000" spc="-1" strike="noStrike">
              <a:solidFill>
                <a:srgbClr val="000000"/>
              </a:solidFill>
              <a:latin typeface="Arial"/>
            </a:endParaRPr>
          </a:p>
        </p:txBody>
      </p:sp>
      <p:sp>
        <p:nvSpPr>
          <p:cNvPr id="28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guidelines for utilities whose capacity payments are recovered in base rates provides for the application of a 50% risk factor to the NPV of the capacity pay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PV is calculated using the utility's average cost of debt (excluding securitization debt), rather than the standardized 10% discount rate used previously.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purposes of adjusting cash flow measures (interest coverage ratio, funds from operations to debt etc.), implied interest expense is calculated on the imputed debt amoun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ccomplished by applying the average cost of debt to the relevant year's imputed debt level. </a:t>
            </a:r>
            <a:endParaRPr b="0" lang="en-US" sz="18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djustment and Fuel Adjustment Clause</a:t>
            </a:r>
            <a:endParaRPr b="1" lang="en-US" sz="2000" spc="-1" strike="noStrike">
              <a:solidFill>
                <a:srgbClr val="000000"/>
              </a:solidFill>
              <a:latin typeface="Arial"/>
            </a:endParaRPr>
          </a:p>
        </p:txBody>
      </p:sp>
      <p:sp>
        <p:nvSpPr>
          <p:cNvPr id="28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PPA capacity costs were recovered through a fuel adjustment clause (FAC), as compared with base rate recovery, a risk factor of 30% was generally used in lieu of the 50% risk factor.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view the recovery of the capacity component of a PPA through a FAC as providing greater certainty and timeliness than recovery through a base rate mechanism. (The base rate mechanism generally has greater potential for under-recovery due to variations in volume sales and fluctuations in fuel prices over time.)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effectiveness of FAC mechanisms, we will adjust modestly the risk factor of 30% down to 25%.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ose instances where recovery of PPA-related capacity costs is guaranteed by a legislative mechanism, the level of the risk factor will be determined by the timeliness provided by the legislative true-up mechanism. The strength of the mechanism can result in risk factors as low as 0% because legislatively prescribed recovery mechanisms are viewed as providing utilities with a greater level of protection than that provided by regulatory orders. </a:t>
            </a:r>
            <a:endParaRPr b="0" lang="en-US" sz="16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Risk Factor for Contracts</a:t>
            </a:r>
            <a:endParaRPr b="1" lang="en-US" sz="2000" spc="-1" strike="noStrike">
              <a:solidFill>
                <a:srgbClr val="000000"/>
              </a:solidFill>
              <a:latin typeface="Arial"/>
            </a:endParaRPr>
          </a:p>
        </p:txBody>
      </p:sp>
      <p:sp>
        <p:nvSpPr>
          <p:cNvPr id="28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the PPA contract price is stated as a single, all-in energy price, Standard &amp; Poor's will use a proxy capacity charge, stated in dollars per kilowatt-year, and multiply that figure by the number of kilowatts under contrac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umber will be updated from time to time to reflect prevailing costs for the development and financing of the marginal unit, a combustion turbine – meaning that the capacity charge is the carrying change on a new combustion turbine pla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departure from the historical practice of simply halving all-in energy payments and assuming a one-to-one ratio of energy to capacity payments. This new element of the rating methodology will also be applied to generation with extremely low variable costs whose price is stated as an all-in energy price, such as nuclear and wind generation.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Lucanio Pavoriti</dc:creator>
  <dc:description/>
  <dc:language>en-US</dc:language>
  <cp:lastModifiedBy>Usain Bolt</cp:lastModifiedBy>
  <cp:lastPrinted>1999-07-15T13:20:36Z</cp:lastPrinted>
  <dcterms:modified xsi:type="dcterms:W3CDTF">2013-02-01T12:03:07Z</dcterms:modified>
  <cp:revision>1172</cp:revision>
  <dc:subject/>
  <dc:title>Project Finance</dc:title>
</cp:coreProperties>
</file>